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566360" y="111744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move the slide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1044360" y="5095440"/>
            <a:ext cx="54673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 type="hdr"/>
          </p:nvPr>
        </p:nvSpPr>
        <p:spPr>
          <a:xfrm>
            <a:off x="360000" y="360000"/>
            <a:ext cx="29638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 type="dt" idx="148"/>
          </p:nvPr>
        </p:nvSpPr>
        <p:spPr>
          <a:xfrm>
            <a:off x="4230360" y="360000"/>
            <a:ext cx="29638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 type="ftr" idx="149"/>
          </p:nvPr>
        </p:nvSpPr>
        <p:spPr>
          <a:xfrm>
            <a:off x="360000" y="9832680"/>
            <a:ext cx="29638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 type="sldNum" idx="150"/>
          </p:nvPr>
        </p:nvSpPr>
        <p:spPr>
          <a:xfrm>
            <a:off x="4230360" y="9832680"/>
            <a:ext cx="29638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6DA0B-6AE7-4005-AD03-9A3582751E66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0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1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2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66FC4-835F-43D6-B049-45AEBEDFEDC4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6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7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8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DC72-8BBA-495F-A70E-7458E93AFCEB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2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3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7BA1D-3FF2-40E5-AE89-0D37650AA40F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8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9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0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BB365-09E2-4A21-A667-4FB734960CC6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4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5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6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A73C3-BA5A-445C-81D2-2BEDA5ECEAAA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0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1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2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340D-FBCC-4BA3-898D-20DDB5521548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6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7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8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7C5EC-6407-45DD-B91A-15FA0552AA67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5"/>
          <p:cNvSpPr/>
          <p:nvPr/>
        </p:nvSpPr>
        <p:spPr>
          <a:xfrm>
            <a:off x="36036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2" name="Rectangle 6"/>
          <p:cNvSpPr/>
          <p:nvPr/>
        </p:nvSpPr>
        <p:spPr>
          <a:xfrm>
            <a:off x="4230720" y="36036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3" name="Rectangle 7"/>
          <p:cNvSpPr/>
          <p:nvPr/>
        </p:nvSpPr>
        <p:spPr>
          <a:xfrm>
            <a:off x="36036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4" name="Rectangle 8"/>
          <p:cNvSpPr/>
          <p:nvPr/>
        </p:nvSpPr>
        <p:spPr>
          <a:xfrm>
            <a:off x="4230720" y="9833040"/>
            <a:ext cx="2963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E522-D378-42D5-8DE9-D5ADA425FE28}" type="slidenum"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566720" y="1117440"/>
            <a:ext cx="4424400" cy="37386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1044720" y="5095800"/>
            <a:ext cx="5472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0DF-25C4-4C53-8412-BF78F21F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096-74B1-48AC-99C9-5D14C34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3CB62-003D-4960-91F8-32009A6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BC2BD-9AB0-45D1-86CD-895D0259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4311-64D8-42F3-AF5A-26B0CEA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5A7A2-1EEE-499D-9BA4-F000B32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22C77-136D-4660-9D8D-A33E325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7E02C-59BF-4AB5-9538-6C8DCCF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917E5-AD04-46D9-80F8-E6F451EC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DFF20-7313-4E25-B82B-3B29F92D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33A70-362C-4270-9BFD-0D369CC2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F333E-7DC4-416E-9C45-030551C4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CD1-98EE-4AEA-859D-1EBE827A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0D3A-E0A7-4083-9524-99957F90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5F4BF-9CCA-4157-B69A-E475472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9C9C8-BEF0-41AD-8C6B-8720531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A3B77-69AF-4987-A061-8B1DB20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49D5-5261-404B-9669-8C40EFB5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7F135-AC18-46F2-B869-42D8736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C67B4-19C6-4204-BE60-3913F53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83BB-18CE-49DB-86F5-BE8BFB6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3FDE5-1AFD-4945-BCEE-B5C4EF3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6A222-EEE7-4385-B1F7-B63B01B6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C7E-AA4B-4754-B0E0-8CF5DB6A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E0D73-B10F-40F6-8096-5AA35E5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3C99E-91FC-4376-AB39-A63ACC8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9D256-4C8C-4381-BCB9-97ED96F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385BB-FC21-4C97-BA34-A8629D0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6FFD9-39E8-439D-93EF-66BE222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2CBC9-4B4D-444C-A36E-3BC85AC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13AFD-E2F5-481F-A115-3F81270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8E5C-8A9E-446C-BF10-CCA9742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08FBE-2C79-4F98-84B1-28D4A33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69D34-AB06-4038-8CB0-8F3F33A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FA6B-63B9-413D-92EC-636BB8E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C3C1-ADE2-4329-B800-7CC25B5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9AE0B-F3F5-477D-9DF5-2F33AECE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B0B0-E0F4-4732-A5B0-B8D38ACD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68B4B-79BB-4451-A52F-F2010466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B0C99-4A61-4594-8C73-36F16BDA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260F-6367-4FE6-834E-3E376C05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AA96C-BE0B-407C-95A5-0E69BA6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9ADE9-E923-493F-B9A2-E95251D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52CE0-6C89-4A65-8856-FDD802E1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2E95-A165-400F-B8AA-0024DF7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2C15-C11F-47E8-84A3-DA8C7E94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DFA2F-BD5E-4CE8-8AEB-5BD5738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86EBA-D51D-4087-8C1A-9898C9D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F3BD-FE28-46BF-80B7-17CCCC01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A3603-F4B6-4187-8D8A-093F6CF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26E7F-B3DD-4955-BBAE-54E12F7A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5908C-6A6C-4D6F-AB81-7D64A9DD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BB13F-0BED-4D57-965C-9147F317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CED1B-0624-4D97-937B-30D5CDB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B4ADA-92B2-4B8C-9AB5-BE2C35E8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05E1F-7F60-450E-AC53-D29A285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6749-869F-493A-8BD7-D1F0930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BFF89-77CC-46D8-BF06-9ADB5AE4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27B5D-BC17-42A4-B868-67E0023B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1F283-62A7-44BD-A90F-35EC53D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BB12A-B94A-40FB-921D-9A8930F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3A9F9-6787-4C62-9764-854F7C4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210D6-8CAC-40CA-AF58-7188120F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DCCC7-F92D-4BB4-864F-CDCE9976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072D3-AF79-4B2D-9049-DFF4E383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04650-1A37-4A94-88A2-42C8E20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CA88B-AD59-44E3-8988-B1E5E4C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CAE5-AE26-4F4B-82EB-6E36C4A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EF2EB-D72D-4261-B3D2-FD9F722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42FB3-003F-4DCD-9CF5-7AB1C38A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F281D-49FB-41A8-B6B5-ADE54F4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61276-1AE5-4B7C-A092-5C2C04C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29B32-3C13-4BBE-AA73-A4C53F0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BF3FA-76A3-49DA-B555-40D8DB7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3625E-664B-481F-8F4F-E5FBBC9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A8033-2C3E-4F24-A452-526EE166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DF200-99DD-405C-AE72-1A3EB9E6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8044B-0335-4000-91B9-CE62C63A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F2C-197A-464C-8DF5-50145DB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3C65A-02DE-45F4-A0FE-E01E3CB6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BB2E3-5DDD-468F-8DB5-5CF43578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9EDB5-728C-4639-8AEB-6C4DA4D5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BAB95-D997-4CA4-B101-2107364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6D2FA-CF52-4EE7-8F04-DFD1C30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CE11C-17A3-4B89-AD00-4011F14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21755-E125-4A17-90CD-6A0A36A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6A3B4-AFC4-4924-8F88-8EAFC777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5AFC1-88B7-458D-96C0-26E8C05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8EB8E-D529-4624-A8D1-C0ADC72E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F7D8-1080-4BA7-B781-7FEABAA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C8205-9551-496E-81FD-546A2AD4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4760C-99E6-45AE-B8A2-10B1D123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08753-88C5-4E10-83CE-114DA9B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A4F1F-210F-4D2C-8416-B00AB27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B12A9-1C80-4601-B318-9B898BB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662F5-1C8E-4E51-8632-574C184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F88C7-9BE8-4857-894E-AE6E4156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22D4D-04A0-4402-9E36-CD6E5B5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CF977-4505-4560-80AA-74A0C36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EC884-5DFD-4D54-9B32-6BA8B17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86E-0D79-4B03-927A-F05B2E3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EFF98-2827-4A7B-A1A8-3296609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7CB88-044C-4F04-840D-CF54CCEA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1C259-4492-4AA2-A7A8-93C7BDA5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995B9-3974-4F97-82A4-AFC2BC1F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E6D75-8E25-47F6-8C9E-19D7E096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939AD-4384-46FB-962E-A894D5D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192F7-A58E-41C1-B135-3C23C25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8155F-CAA1-4637-8D92-65463EFF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C7BAF-8C65-431E-BCC1-900C999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BE2BD-9056-41C6-9F11-DA4FD5A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CB0-470B-426B-8046-BFB0908B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0022-08AA-4B52-BCBF-471FA04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DC43B-B034-45D8-91D8-201360A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9F210-7FE3-485C-BEAA-077733E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082B2-6099-4E20-ACC0-A987680F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90AFE-149F-4540-A1B0-AEE18DB3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1D1A7-C9BD-417D-A63B-A21E43C3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2CB36-6DA7-4DB6-8B67-86F667F4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1E22D-0E0B-46A4-AA3D-8CB61EC7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B13A3-C11E-4997-B075-175F3BB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21F53-FC04-48E7-BCB1-3E7454B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94D58-FF0A-4FC1-8D58-BD19528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AEB-3ED6-4F0A-9D09-B25D97F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9608E-3AF1-4114-BBE6-2AA779A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362ACD-1446-4FDE-B46B-578996A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C0E2C-8A4A-497F-8C19-E64DA0D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50720-172D-4A0A-8251-267FDD3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FA23C-CDFF-4611-8E74-F12485F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22A74-8ADD-4543-9FE7-7B1C015C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5F6CE-FFFA-4A12-8A05-F97B5B9A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D48F3-97CB-449E-AF76-5E623B40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4D50B-47C0-40D1-9A58-C7C58D6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B8BC0-33A9-486E-A661-C2416A31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772-6D1B-4731-B36C-CBC56C4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549A5-0BE5-4C29-A2D9-FEC417A8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1CF2D-38C5-464D-8EF5-85A55529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C4FAB-611A-4414-908B-3BAC902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BF09A-7A7E-4339-B95A-1B56B1C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A28B5-8831-49E1-8441-65BBC4D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83AE4-4651-4B9C-9805-439934D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30027-A8C1-41F4-A138-A7664C9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4D167-1D5C-4B5D-B296-CA463580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4848B-52DA-441D-B9C0-BDFD681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477BB-61BD-4835-80C8-C490C0C9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F70-7F87-4A8C-8642-D0F7582A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3E227-300A-4E5C-B830-611552B1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95D5E-D6F6-471D-B495-8209B38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4140E-B573-4FB4-938F-E9674D6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65237-60E9-4DB8-BDF4-63F2317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B2885-0A8E-4280-82D0-A0BBB3CF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B5DF4-65C5-4F34-AED0-BF6F3B5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B5F9A-3FB4-47C9-B5F8-DCB84D3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5D4F2-8E06-4E2F-8819-21509D1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AD4A5-EBA5-46DC-93E1-CE1876EB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8DB22-7E03-4A46-A20E-645A892B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7248-923C-4E7D-9913-D2CF296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D5244-3342-4EEC-8CC4-8DD5EFC1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06044-BF56-4D41-A64B-EF1E7F71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CAD439-2A60-449C-A9C7-ADD8D93C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524F9-9B86-4BED-A292-103DBE1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ACDE0-CDDD-435C-BB17-FFD9DB0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84140-5002-4CD1-B687-13B36CE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B234A-1134-496C-884F-289C2BA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DB6DD-CD2F-48CA-B98C-1D90230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860899-84F6-4114-B0E4-5A05F77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33D0B-916D-4447-A825-45B5809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31F5-DAD1-4566-843B-F91CC0D0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04341-9488-4EFB-B7B8-B861AEE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02FFD-B3C7-4FD9-BBEF-BC822B23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22DBB-F4E9-4983-B38D-F1FF578E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1A3BA-3A6A-48D0-9E4F-87281F82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2DBC78-7B30-4A1B-ADDA-29955FB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81836-0708-4C9A-A504-1859DF4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55CAD-0C77-4B39-85DB-8999DA4A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A689E-14A2-4D91-93A4-233D346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B69E3-FABB-4FBC-BE07-79715CB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D69E7-7EE1-4775-9DC3-9986F50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78D1-9292-4824-A078-A44C117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337EF-CC82-43A8-8065-0830D2F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8126F-2179-4795-B662-6C17E03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CBE759-04B3-4703-8F37-9620CA1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3A3D7B-B23F-41AB-8EE4-B14D1192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80D8D-431A-4406-AA4E-FBEB354C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4E042-EF0F-4F61-92B1-B9AAF6D8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32DCA-40A7-4BDE-8403-94F6F04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85071-2DE4-437A-9CE5-15F8B2E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460CD-A95A-4E38-A391-9AD195F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618D9-547C-40A6-8B9B-636BB73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9A58-BEE7-4029-8DC4-20C41540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04B7AD-D25A-49E5-BF65-1D9D42A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911207-6835-44DC-B39D-3B09ADE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6BC5C-451D-48B0-A2F3-F4C0DDC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4F177B-E25E-47B0-9906-1C5BB73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338D73-1E0B-4614-88A8-5BDBE1AB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2CB4A8-A8B2-4DDC-8790-220101A5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972AE-FD3B-41C9-93A9-4913DE5D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131296-8CBD-4484-BD3E-9F92AF26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241B5E-0DDC-41D1-97E8-5ACADD97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037C48-42C8-4C34-B57C-A53AEEB8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DF97-71E1-48C9-9BBB-1979E01A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63C0F6-1751-4263-858D-B903FE6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1F3C8C-DAB5-459C-BA5F-E748CE0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E705E-3550-48F2-B430-CB2B642A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0A18C-1DE4-4D03-9F37-B816F8B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D5EC8C-8FEB-4B50-9FC2-3B0C0C4D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4E2CD0-FA4B-4D43-97F4-0EC50F8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C6773-9DEF-42CB-8680-516299F1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5DA2C2-C075-479B-A7F8-3D67DCA8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B518D-D8DB-48DC-AAEF-B6F21F83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5B839F-84C2-4739-8855-ECB88C6E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83C7-52FE-4341-9338-851CECD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966115-0481-4E6D-AF4B-80B43F69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04DB1D-DE29-4570-A9B5-FF8C96AC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922CE-6DF6-4EA0-8899-774DB09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418A29-773A-4ACC-85AD-4F552AF5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6F3803-9738-4917-8D60-CF8F65A3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3BDD6-CC7A-45A8-8138-8A2171F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197381-6F24-4A83-9D90-2A95D7D1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AD4F73-922F-431B-9E40-01D4BFF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1C70C2-6FE7-46E1-97A7-B5C8DE8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9328E5-8085-47FC-9039-1B976E84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D9F-F24D-447C-8CB9-1CDB5D4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C552-4EE1-4181-B9DC-13B075C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D6295C-281E-4388-9F2D-44D2EAF9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9F718-DD09-4CC0-AFA8-53AC295E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C05B28-6888-4F20-82E4-AF95642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80AE17-6A75-4BDF-B16F-E3CD5275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247D91-7989-4BDC-AF71-B9C7DE6C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FCE628-B3AB-4444-A844-E74D019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703ED8-3EAE-473D-BC39-CB03BAA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F79C9C-C7B2-4F6D-840E-8544DA9B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9ADC9A-C1B3-44FD-B143-8820002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ED58F3-42AB-4B0D-8015-2E6B770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95F2-086C-4712-9DA2-D6DC713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F1D7B0-122A-4047-A190-57A7DF7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F12362-FB38-48CC-8AE5-A28BFA0D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C509B4-F2E4-4C56-8BF8-0861D020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043C31-8985-4748-A5A0-738BC537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56083-2D2E-41BD-950E-B5C7A5D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E5DD24-02FE-4872-B57C-A90266BB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16B996-CED2-4385-B9E8-76AE600C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33FB2D-C778-486B-9DFD-4588B444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9F9C94-04A7-4F8B-BE7E-FBEAFBB7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29F4D-1502-4F8F-9D99-6D5F85F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4A88-DCB0-407E-A216-E877D1F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3DCCB-EE04-46E2-9A62-232830E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84BA1-3823-4B61-9DD0-DB95D3E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B4A499-971D-4CD9-B2E7-91770E65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AE9089-4DAE-40E6-BCCE-E5053CA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50C675-3C88-451F-A0BA-8FFF29F3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C395FC-2E90-4A56-A976-8668557A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9AD289-A080-4BA4-8AD1-596FA60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A135E4-F1A9-47D1-A723-82E605ED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7C63AA-4099-45B1-BBD3-D1F52821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C99217-BD01-469D-A489-47AF933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FD04-96D1-4F47-8F76-9C4D17D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0D3A57-2E1B-4005-A687-AA392DED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F119C6-377A-4BF9-A09E-0BA49A2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F0741F-B36A-4CDE-ABA0-1A0D367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133B84-BD57-4D5A-BB1E-25B92DB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D88804-1E02-4E35-B476-00E5CD3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979F6B-FFF9-484D-B339-85BDA0C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096307-0935-4993-AA8D-8E79C6D1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88D075-8D54-4C9E-AC93-E448A89C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EC9988-635A-4F79-B5B4-B91AD16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236AE7-A98D-4148-8054-2BCDB950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9D6B-5138-4B9B-9A49-E00B55F7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974131-D888-4043-AA7E-57C60A0F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5944D7-B093-4599-B40C-B942E9F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2AE6C3-ECD6-4766-9DA7-C2356C5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F32428-85B8-4151-90EB-BFD1249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9FE386-2D22-4822-9BDA-ADF4D9F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5F3FEB-BCBC-4997-901E-061C8B0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80E9C4-3302-4F00-9ACB-735D6192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29C6DE-3606-4B6A-A19E-EF229DB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418B87-BF20-4FE4-956C-307A572E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CE75E-EEB3-4F90-BD4D-878C34C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B31E-C264-4EE6-9256-172C8E6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9EECE5-9FF9-4BC3-8DDD-718781A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93EF93-3AFD-4B12-923F-702EF47A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711B5B-3014-470D-982E-A5A5F102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068CEE-64E6-4CD4-BAD9-9DE0711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5AA78-16ED-4A3B-98F7-B1760F56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92C2F8-3955-4581-97F9-C547C7B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5A314E-298D-4E3E-BD16-A48060B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D2A4ED-56AE-4D8E-830B-61C6CC9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F89591-EBB2-4CC9-AC99-BDD0ADD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18A556-7245-4FB5-B6D7-0F25FE35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A4A2-011A-4A99-9843-589CD610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89C86-5CDA-4730-95AD-69823A60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F9D567-867E-40C0-BEC0-CF0238B5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6C8862-9D27-4DCC-B885-8C394030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80A0FA-AE72-4CA4-8422-BF5508C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1DDE8F-4CE7-46ED-81DC-FE8CAAF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B0AD51-DB19-4AF3-8B5F-6CADD059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41695-45C9-4E48-98EB-1F6520D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3A3A6E-2465-43C4-A806-516E693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08D312-2875-4C62-AAB9-EB48E17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897F82-2B7B-41A8-A876-B7BC32B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349A-DC8F-4871-AB30-26F5B829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8A09F1-DD94-451C-9B36-F278EFC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2F0D40-7091-40A9-9C98-4958498B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90AE53-90CE-41E9-8124-5D066326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275836-0B95-42CF-97F7-D4E4C22A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893B5F-9C05-4C2E-9AF3-B786BF5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6068F-9DDE-4D0A-B962-161ECD5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1AAE01-15B8-460B-8944-57AB788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D4C27F-C7DA-4808-A684-525C46A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08BA2A-F799-4ECA-83F7-A06D28F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7C6116-56CD-471F-B2C1-ADB245C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2296-17B8-4081-8C33-BF065E3A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CF9FC4-ED77-469E-B9D7-525338D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FF8795-E4CB-472B-9DF2-1B2A65B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A2EC5-4BA7-4D65-BEBD-BB56754B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6EB2E2-98B3-4913-A87C-BB3A7356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6D14CB-9C7B-4EE3-A6CC-218FB23A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30DFBD-7D02-4828-B672-7C59B4FE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624BE5-3B68-45C7-AB16-0FEF89B6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5804EC-D545-4BA8-B4A2-499A0479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1CFB98-680E-484D-93A8-BC48F9A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8FC974-D41D-4C60-B79A-403AF6D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CC65-88F4-4A73-A86B-EAE14A7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6A190C-9AD0-4A02-B16B-FB8A6B9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90C995-74D7-4C96-AFB3-CC41C6F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C0F411-648A-4C98-B68C-46A2649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92E26D-4442-44FD-9299-2E21E2E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692413-B16E-4F8F-BC38-491CF981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3C9B87-BDCA-4F63-AC62-9C80B5DE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0CCFD5-7ADE-479B-9F9B-F44A7B0A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CC3A89-456A-4351-AAB5-085CA5F1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F1CF91-8CAC-48CB-A428-C7E87086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D8515D-28FE-4F30-AF62-19C8644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B46-9D49-422F-BCBF-C88C14A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F46E-2281-47C0-9D6E-30BEE7D4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8309DB-93E9-4EAE-B687-CA06F22A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D221D2-98D8-421D-8ED1-B52E47E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26DC20-3CCF-40B9-9426-D10AAE39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21AFAC-00B0-4AF9-A45E-9CA328D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6C01CD-290A-4E44-906F-BB26C02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0F53E9-29F8-4094-8A33-2E7BAF6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69F519-0D7E-4744-A525-7504A2B9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D305E1-A581-435D-BFEF-19C8D7D6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ADBDE8-A740-46FF-B4D0-E2DED98F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F6D519-6907-41B4-8626-8934C08D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0684-38AB-449A-A1C7-0207EBB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A4DE72-3BB1-4D71-93F6-E0CFBCF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24E6EE-31B1-417E-B6B6-1A03E19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876137-E8FA-4E5A-AB98-58AC9BB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18ECBF-3754-4DC4-B340-7C15A86B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69BD59-0C04-4095-8AC8-65256DB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6E7699-9B45-4E78-B898-9D36E6B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70ED02-0E3E-4189-9D98-9E5ED821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479E79-5EA8-4AA9-A439-64898BD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F9D749-9108-4A18-984E-CD16F84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326631-0B2D-400A-B008-8D15D88E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5BAF-8253-4277-BE79-629064E8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713D46-2699-4DE3-BD95-1A0C006B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F867B6-768B-44B0-B999-8CA0D516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25641B-84F5-49E9-A1AD-081561F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299EB4-EFB8-4D92-A354-C79F495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933D01-6B5F-4D47-9735-7BDC439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A9C918-7AF3-4AAA-90F8-743C6CA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26D38F-1B3F-41ED-B262-2B2E65E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DDF128-EE7A-475B-8D67-A74E591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A5EDAE-91A2-4CC1-A63B-6F7E695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3B02E5-EC1D-405B-A0E0-E882873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F0C5-60D2-4299-BB1B-D78C992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0F2A11-07CD-4252-BE8B-51B5990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B2BA2A-9ACF-40A3-BB1C-3D52412A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CAE826-C56E-4801-8804-A551A0B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BDE3A9-96A9-48EE-BFE3-3344F56A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0AF741-8418-4FBB-BA6A-57ECC2AE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E7E465-1E8F-4426-8DF1-C3B2F315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C862CE-00FE-41A3-B2F3-BB76316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EC13D6-98C9-4A4F-ACC7-8D4FDC4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DA3B92-DEB2-463D-B8DC-E81743E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E4979F-854E-432B-8F92-48CB4F2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B2FA-E131-4705-9FBB-3B7AFEC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917B82-F4CA-4A4B-8EE4-DFC6F27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396408-9B42-4959-AA89-A756186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9A4FEC-1ADB-4543-87D9-E72C86D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A91818-2688-4F3C-A40F-E6DABD78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9DD4DC-8E06-41FC-8835-1C399E2B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FF6648-2601-406B-9E60-279B29BB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680811-EA9A-4763-ADBB-1EEE5BD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93D42B-F36C-4684-B21C-AC6614F7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5BFE98-259A-4F27-9519-062940AA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5F03BF-9999-4FA0-A0FC-D824A28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654F-F401-461C-8C18-55825CA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AC35B6-113A-4619-ADF1-E18287A7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E81217-EB89-4A7D-A5AF-7B0A37A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B1FD7F-7857-4B9D-90A1-DB542E0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101108-A561-4110-A0B0-1C46AA8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4AF1DC-C145-4455-8A63-F8031132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3C277C-2C9E-4841-A5AA-15830F04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24C2E0-A7C9-4337-BDB2-CB324626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90CD73-D0A4-4C5D-896B-908077A1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085237-4511-43A4-A254-C4A6187E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3877B1-3137-4C89-80C0-00C2F73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565C-E620-4594-BBFB-02F07230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D53A2F-70EE-4304-BFD0-5E87603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F5D1B7-28D3-4906-A8C5-B5EB31B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E0EFCC-FD3E-47CA-B15A-768D4E2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C14C73-A67B-4146-9D95-5C71E98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ECC596-4D5A-43FD-8507-5B1BA0E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E75069-B6EF-40B7-8339-7FF816F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611150-17E4-4FDF-A5A5-D2A09A9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C10ABC-5756-4A9E-9F55-40B8E43B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C18044-EA6A-40FE-BED8-12B3334D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2A2DBB-9D98-4441-B4D0-2750DF7A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B05D-10AC-4D12-979A-5BE829D9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869AC3-C335-42D8-A45D-2A0C1C4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08FE5B-F550-42B1-8726-C349491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070EF9-B52A-46D4-9451-BC56DBB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8BE565-7D41-4B6C-8523-39ACC55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248896-676D-42A2-95E5-ABFF7F2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B59F93-259E-4FD3-9759-2254C82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09B464-044C-4942-B399-61FBC62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2272C7-357C-413F-AAB6-3DB3015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B04E26-5601-44B0-9965-BEC34727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AF21B8-756F-475A-BE58-27D0324C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3771-EAFB-41C2-A9B5-6E3CC99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4639C2-299E-486E-826F-49625FC3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9A656C-684E-489A-A774-491868AD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F6D44D-0053-4ECC-8E69-4E5DE99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F790BE-6516-4454-937D-9CC0829B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80F485-D8AC-4077-9BEC-D9239C5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1F0D68-DFC9-4C8E-8F6B-A128F89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135DAD-34BF-4529-A197-1DDD8396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4FC0D3-0C28-401F-B33F-68F7863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300565-4D63-4170-887C-89C3D26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235D78-5DA6-4D69-96C9-BFA64FA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21CD-0053-49A4-84AC-7C85477A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073760-D07C-420A-B479-FC4F4EA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CF0146-47A3-4E90-8D78-FC806D0E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CEAB8C-278E-48C9-A905-0A366CD2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FAB6F7-13AF-4556-87E1-40E2AE0E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511978-63C1-428A-B891-E0AF4F82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55B42E-4AA8-4116-BB73-2101EBD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4A7F94-9937-439D-B2F4-CF24911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049A4C-721F-4FAB-B596-233B6644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E16E98-2C36-4DF8-AE36-00F8EBD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88111C-2B6B-47C8-BA5E-9493CEA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44F-9340-4BBF-B1D5-0259A795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E1EF-F6E4-4765-818D-8215B14D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50677B-345F-4681-AD87-3A00B82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3A8D1C-A305-4FE5-807F-664EBF0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D6DF2D-725A-45AD-832A-DDE7749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AD5CE0-A94D-4A9F-B483-040E50DA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F24BB9-E59E-46B2-9C4A-33A642FE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8B2E86-2F03-4035-97DD-CD9AFC1B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ADE12D-A84D-4C6B-B230-2460C750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FFA629-1D46-4721-848A-08499BC6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81FA62-DA92-4E6A-BBE0-8DF3D7BC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C176FA-8694-4B45-B7A8-51795DC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33F7-E616-421C-BA0C-87EF412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3F237A-745D-4852-B942-B6153A4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D5B46F-87CD-4423-BAB7-DF610B7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DB6FC7-AAD3-4871-84BF-2E255B6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0AD9EC-B9ED-4073-8D31-3434FAF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1918BEE-88DD-4FCD-998E-B577B8C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F1D7B1-0A7C-40E1-81AA-F4AEAB32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5FA659-4281-4139-9CE9-963128BD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DB1FF0-4641-48A2-A2F7-0916BE8E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AB6F9C-85D7-415F-8A90-70E73D8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CC2142-1B9F-4EF9-B9A6-BFE8287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EADD-DDBB-47C9-A47A-3D05639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00DAB8-2E76-468B-8696-06A7F338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413FF2-8B49-4E65-9541-D3CA9FD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D161D1-7C68-48EC-8F5F-A4A3D7C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DAB483-0579-44BF-8D3C-1A33F75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C3D28C-2B3F-4BAF-A469-CF24F17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ED8CBE-14BA-4488-A9A6-9138666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B354DD-C894-4E60-B61E-71A4AB3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D853EC-5D43-46AA-842F-0AD296A0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3281BE-DA9A-4687-A7A5-E0EC8CC5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D3EDD0-9189-434E-BD02-EFF9DCC7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45CC-6367-438B-B730-F413360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FC9B97-9302-4886-AC5E-9F8815F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156253-0E66-4897-B709-A948468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2F7A68-CC83-43BC-8198-25F7267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516615-1ADD-4345-B32E-75E7F60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0A5150-7CEC-42E5-87D6-6D852C08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B0E021-8E8F-4295-ABB2-533678D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5A3325-E1CD-42A9-9C0A-B2930D0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A341A6-BE18-4D83-B12E-E54A8FF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7F36C7-71F1-4258-BA1F-ED273D0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2C07660-90FA-4E0E-BC17-56A2D8BB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0792-890C-4C16-87EB-89952ADE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F8B000-BDBE-42ED-8248-4C144005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EAF5E9-8C34-4C3E-9EB8-21B12F37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F08494-FF58-4440-A6F0-41BEDC21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55E6C0-6E30-4A6A-A820-425A560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A2E276-08EF-4938-8F7E-BD4B5C4D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1D9B62-669B-4B65-9DD3-F2A36A1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9BEDB5-2634-473D-A8A8-53C6471B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DB9C1B-5171-4CB9-ABFB-8E4F9CE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022AF8-65EB-446B-BA07-7C976920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D2CBAA-AC39-4DA1-ACD3-723BAB3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42B7-E4BB-46F0-B963-9C6B503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413426-53F3-4DDA-B3A1-09A5730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81C879-EF32-4B61-B389-C73F6BE9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6DCA28-8160-4629-B69C-F1BD0D0D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B97DBB-9670-46E1-BD22-6FA69E09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D1555F-8D99-4868-B236-8773794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AA7C73-ED35-4B4E-8A1A-919722B5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BFED85-CC18-4B4B-844D-B80D7D9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5A88B7-8E20-4506-9AF2-6695ACA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59A1AE-6EEF-4AE7-AE04-C42D490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180D30-82D6-4D38-88FF-B4C8110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38E8-EF10-4C50-9B57-E32D0BE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B84A46-01EB-4C4F-924F-80182481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5775C4-6925-467F-BA83-283D8892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D83E81-672C-4D31-8CBB-7C2E0B8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9A8F07-40D4-4C50-9E7A-F8BA7222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0E182E-1B93-4966-BCA6-5827E0DF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CCAAE8-04B0-47DC-9475-2492149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D5D560-8CB5-4AB8-A94D-6F5244A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E877E0-377B-4F73-8500-673E536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AA8587-AC57-495D-91BA-8949CF31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D62E6C-D16E-41B6-AF65-C956E432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7347-6BFD-4DC3-9C91-A97825F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241E20-3380-4E63-B7C9-A0C32D84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D3355D-338F-4FF7-9080-12DF097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C8B7D9-DD1F-4811-9318-1428AAE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E8802C-7919-4052-843A-18986A6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8440DE-FC47-417E-8551-2442C17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A23CEE-A768-4CB9-AB54-AE3D9440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F9B98D-7D68-422A-8B15-406D05AD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7EA6BD-1CF4-4FFE-BDB0-201DF043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B7D8B0-ED39-418A-9AC3-22A22FF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6670BA-331A-423B-82C9-16BD471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7C3F-B3A2-4D2A-9BA9-BE63DD7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C71502-446C-4308-9BF0-C78D0274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305332-5675-4A8F-A92B-750A682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AD8CBA-7550-416D-BA95-DE6D2CA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589241-36E8-40E1-8167-5AA01F8C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8C70A8-C4CE-44C5-A967-84B0B57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F0039F-E451-4C4B-AD29-6B3086C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14ACB2-0302-4E9B-A81E-97A0705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6ADE9C-35EC-4EED-8D44-9BD51863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3CFFDA-3B75-457D-B168-4BC01344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B254-F441-4826-9DBA-CF5981EE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CEC-B397-470A-A018-04E15D8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27E6-32AC-4E85-AACF-26A1E013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5357-BFDE-4D46-938A-9FC0D2B5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49B7-75AC-4C94-BCCA-E1019A4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C901-F729-45D3-B04D-074D767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0FF5-CE5F-4488-86AD-E333231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69C5-3F3C-4EBD-ABBC-EED92B7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0B72-67C6-48E3-8782-DDE67B1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43F1-34A3-4C62-B5DC-74DAE01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B97C-1364-4299-B0FE-EC98117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253AA-F3FD-415E-99BA-C0EC45E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3F4-F9AB-4329-8125-1E1966F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7C65-D263-40AD-8683-1E34E155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8513-0634-4E30-94D5-4DA1DC25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7DC7-9F55-4F3D-93B5-2F86E62F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B3448-BB35-43B7-8550-28BC4B36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4E141-D9A7-4909-9A5C-550DD1AA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DC9C-6CD5-46DD-B24A-6A9FBF0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AF61A-AFFD-456B-BB37-07FF1DA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05DB-7B0F-4A71-929D-DBCBB859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226D-04D0-4F04-A6D4-86612B2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6D669-BB22-4191-AA68-24AC324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5DA-5A6E-44AD-95AA-7980B2E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62C0-3458-420E-9626-A831700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F5BD-40E5-4321-800C-67D6DDA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7AB39-9FD5-4FAC-8945-6221580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0A71-7DFB-44C5-BABA-F689F229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C74B9-F5A3-475B-A6A0-3886B9C5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758F-B826-45DF-A937-8D579BDF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DA26A-2AFA-4B79-B9B7-AB967EC3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218AA-6ACC-4DC6-A6A4-F049307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304B-47DA-4DD5-B22A-29A856C7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CE0CE-5BCB-43D5-B485-9076486B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A3B-3E7F-4A93-BD89-804B5BF4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6AAA1-CA9E-4965-ADE7-6797622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44BC2-4E62-438E-A529-9CE78C1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5D50-A8E6-444F-8736-00B5AEE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FE33-746E-4300-93F2-2AD9075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FCE2-9F91-4B8B-8FA7-69AD897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02215-EB8F-4F62-8368-7FE1306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B948-0719-44E6-A8A5-7B39DAEC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A653-C846-47F9-BC94-DCC947FC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B9AD6-2359-4648-8615-0908D733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0029-B74C-477C-B16E-8E4AD4C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E45A5-43B3-485B-A33D-8A3E4605313D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D4AFD-99F0-4602-9C4E-87CBB33996AC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D8DF7-095B-4EF8-901D-FBF96A17F541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8C2B8-33AF-4653-9475-F256F9A4894D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F02FB-AB7E-41B2-ADF6-42F353119015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01E5-B3EA-44D5-8B12-C0CA816CA806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24A05-6376-4B87-9080-A4745DE7EA53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3A74F-8D19-419E-9D74-D9ECD82A408F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B7E5-90A7-4CEC-8094-F284769A226E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3B3D-DCBD-4547-B623-698E1CC9963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BEDE7-6A00-4B6E-912B-995A04567294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417F-A73B-4A9B-90C5-43EA39FDAD6A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8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9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60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7747-D3A8-4799-BF92-E6EBA73F5F3F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1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9DBDB-2BB6-465D-B911-23AA622D8D1F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43E75-E8B6-4F7F-8EA5-1403936CC026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8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9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88616-0329-41E6-AB13-87984FB733B6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7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7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7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BD2FA-E244-4B5D-9B13-CB2220F26285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73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74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75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E7DE2-4A5F-4862-85D0-FD9F5DDC393C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76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77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78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9EF95-3B5B-43D8-9860-158651781EF2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79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80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81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C2AFA-9375-44E3-8C6F-68D5C6B8646E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136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82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83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84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E9DCD-73BA-4950-8D6C-B26D8D1B2E7F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179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5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6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7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08AA-9282-4484-86C5-8FF29871838D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2C47F-4C20-4A5D-B0DF-6E7F62532686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222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8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9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90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6DA2-FB46-45F0-917F-5B6D135AAA30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265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91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92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3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822E1-F55C-428F-8D5C-94889271140C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308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5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6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9BC3-831F-4C80-9AF8-0D42F37D9151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351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919C0-879A-4785-87FF-7F53C9C53528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394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10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101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102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446A-5124-40E0-94A9-FD33255F2E43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437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3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4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5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9906C-E7B6-46EA-B064-08F22924E07A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480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6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7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8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94B22-AABD-4259-B6D6-945EA99F84F1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523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9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10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11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2976A-9E16-44E2-9527-968160D64FBE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pic>
        <p:nvPicPr>
          <p:cNvPr id="1566" name="Picture 7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12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3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4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E653-2D96-4174-ADB8-A2E31CBA13AC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8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15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16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17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BB151-B372-472B-AD9A-B2936F1D4A5D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3425-F1B1-4A27-AA11-407F349A2BC8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dt" idx="118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ftr" idx="119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 type="sldNum" idx="120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E89F-01EC-4EBE-B8FA-7F04D218BE4D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121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12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12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9BDF-AB57-4D19-8F13-3EBE9DB43874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12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12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12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2C6A-E062-486F-ADD7-027F8F4E254E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12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128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129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FE3B1-8F34-4830-9D27-7373B6FFF18B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 type="dt" idx="13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 type="ftr" idx="13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 type="sldNum" idx="13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DA8C5-C7C7-4001-8144-723E20C3FA36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3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4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5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9B4FF-9384-4F10-A1C9-A6FB06A43572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 type="dt" idx="136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 type="ftr" idx="137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 type="sldNum" idx="138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900DD-A9FA-4219-91A8-22EF52E9780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9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40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41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C76D4-5F54-4841-BD76-63815CBFF35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142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143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144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46D7B-E474-45AA-A8EA-E0AAF6A29B8C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8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 type="dt" idx="145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 type="ftr" idx="146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 type="sldNum" idx="147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6871A-71BD-4EC1-AF5D-22E00A10BD22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9D97-A329-49D1-B931-D78B6CFDC803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37137-43AF-47BD-BD2A-113CC7CE9266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6C582-8492-4EE0-B219-0C80FF2C954F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3238-7BC6-4B19-A438-367C75A0B084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DE140-BF3D-4B43-BF05-9E1226A87430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913040" y="3927600"/>
            <a:ext cx="73152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COMPETIȚIA </a:t>
            </a:r>
            <a:br>
              <a:rPr sz="6000"/>
            </a:b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UAUIM FFCSU </a:t>
            </a:r>
            <a:r>
              <a:rPr b="0" lang="de-AT" sz="6000" spc="-1" strike="noStrike">
                <a:solidFill>
                  <a:srgbClr val="ffffff"/>
                </a:solidFill>
                <a:latin typeface="Source Sans Pro Semibold"/>
              </a:rPr>
              <a:t>2025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subTitle"/>
          </p:nvPr>
        </p:nvSpPr>
        <p:spPr>
          <a:xfrm>
            <a:off x="1972800" y="493560"/>
            <a:ext cx="89996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ource Sans Pro Light"/>
              </a:rPr>
              <a:t>Universitatea de Arhitectură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 și Urbanism “Ion Mincu” București 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	</a:t>
            </a:r>
            <a:endParaRPr b="0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Adresa: Str. Academiei, Nr. 18-20, cod 010014 - București, România </a:t>
            </a:r>
            <a:endParaRPr b="0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Telefon: (+40-21) 307.71.12, Fax: (+40-21) 307.71.09 </a:t>
            </a:r>
            <a:endParaRPr b="0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DMC – Departamentul pentru Managementul Cercetării</a:t>
            </a:r>
            <a:endParaRPr b="0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www.uauim.ro/cercetare – email: cercetare@uauim.ro</a:t>
            </a:r>
            <a:r>
              <a:rPr b="1" lang="ro-RO" sz="14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400" spc="-1" strike="noStrike">
              <a:solidFill>
                <a:srgbClr val="dbf5f9"/>
              </a:solidFill>
              <a:latin typeface="Source Sans Pro"/>
            </a:endParaRPr>
          </a:p>
        </p:txBody>
      </p:sp>
      <p:pic>
        <p:nvPicPr>
          <p:cNvPr id="2081" name="Picture 3" descr=""/>
          <p:cNvPicPr/>
          <p:nvPr/>
        </p:nvPicPr>
        <p:blipFill>
          <a:blip r:embed="rId2"/>
          <a:stretch/>
        </p:blipFill>
        <p:spPr>
          <a:xfrm>
            <a:off x="403200" y="228600"/>
            <a:ext cx="1434960" cy="1371600"/>
          </a:xfrm>
          <a:prstGeom prst="rect">
            <a:avLst/>
          </a:prstGeom>
          <a:ln w="0">
            <a:noFill/>
          </a:ln>
        </p:spPr>
      </p:pic>
      <p:sp>
        <p:nvSpPr>
          <p:cNvPr id="2082" name="Line 4"/>
          <p:cNvSpPr/>
          <p:nvPr/>
        </p:nvSpPr>
        <p:spPr>
          <a:xfrm>
            <a:off x="457200" y="1828800"/>
            <a:ext cx="9623520" cy="1440"/>
          </a:xfrm>
          <a:prstGeom prst="line">
            <a:avLst/>
          </a:prstGeom>
          <a:ln w="18000">
            <a:solidFill>
              <a:srgbClr val="1e9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3" name="Text Box 5"/>
          <p:cNvSpPr/>
          <p:nvPr/>
        </p:nvSpPr>
        <p:spPr>
          <a:xfrm>
            <a:off x="1973160" y="2259000"/>
            <a:ext cx="7856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CERERE DE FINANȚARE PENTRU PROIECTUL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TITLU / ACRONIM: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56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DOMENIU VIZAT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SE ALEGE unul dintre cele OPT domenii descrise la punctul IV pentru care se acordă finanţare </a:t>
            </a:r>
            <a:r>
              <a:rPr b="0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Manager proiect /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 Nume, prenume / Funcți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Bugetul propus /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urata proiectului (luni)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Scopul proiectului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ealizarea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 ....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86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87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8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ObiectiveLE SPECIFICE ALE PROIECTULUI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91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92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93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partament/e implicate  / ECHIPA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in care estimat nr. DOCTORANZI /STUDENȚI IMPLICAȚ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96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97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98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CTIVITĂȚI PROPUS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101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102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3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REZULTATE ASUMATE - CORELARE CU INDICATORII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106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107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8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scriere/ justificare BUGET  - care sunt cheltuielile proiectulu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personal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materiale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111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112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13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5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LTE INFORMAȚII UTILE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PROMOVAREA REZULTATELOR PROIECTEL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SUSTENABILI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116" name="Picture 3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117" name="Line 4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18" name="Text Box 5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>Andreea Robu-Movila</dc:creator>
  <dc:description/>
  <dc:language>en-US</dc:language>
  <cp:lastModifiedBy>Andre Mov</cp:lastModifiedBy>
  <dcterms:modified xsi:type="dcterms:W3CDTF">2025-04-06T12:28:10Z</dcterms:modified>
  <cp:revision>295</cp:revision>
  <dc:subject/>
  <dc:title>Vivid</dc:title>
</cp:coreProperties>
</file>