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1AF-8D04-4AD2-A209-C7869021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8CB-CCBC-4BA0-A6F1-BBA3FBA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68D-DFC9-4980-8D9B-CE0920B3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7F8-00F8-419E-816B-2DE7DC5F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743-B739-4967-9DC3-B60DD557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53AD-8349-44BB-9585-0D318A9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562-4FEB-4911-9E35-CA3EB75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93B7-C21F-47AA-B9BC-DD582F7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B906-C45D-4B74-8945-40764708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A7EF-CB17-4C7B-B5A1-D7B35216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E30B-52DB-40E5-833D-1BD5CBF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1EC-E1AA-4529-8AF5-B7947921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CBDB-7500-4AFC-A883-68F2333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90D-DF06-4D71-8981-95CDBA8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3917-BA35-42A8-99B5-FC7BC12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0A1A-0EC6-4054-81CC-811DC373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4873-AB4B-40EA-8409-4AFAA438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DEC68-C86C-4AB4-B13C-3C4E5D44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9A8E-0896-4374-9849-28085D95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BA99-AF16-43BD-9BF0-06DB3CA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F4B91-5CD6-4C6F-8A36-89E85AB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9421-1BC5-4F9E-B349-621C366C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39A-C27C-481F-857E-2697A72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A0C9-732B-493C-BB3A-77601C4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26D6-9F0D-491B-8C6B-46B7A4F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FA74-C68A-4E4D-9A81-E44A854B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188C-D7E9-4E3D-8EAB-50B03054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823D-5C23-4B60-918B-4A3830F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E332-046E-470B-AE52-111FC916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A6ED-75EC-46D7-BA82-2197BF0B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35F8-8DDB-4175-BB2C-15C1909F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443F-10AF-4381-A559-B4F33864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26AF-0211-46B3-9664-E513C7C9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07F-537B-4F00-A67C-CB379D8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54E6-C486-4612-83CF-F85817D6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AF42-7501-4FF2-8721-642EB42B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4BD5-7B83-44A6-9609-914FE263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916A-2C24-438A-BAB5-E370C335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5510-447C-4AEE-9C83-781B62E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A3012-8AE9-4392-ACF7-95D28D9D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0D0A-A893-483E-8DEC-5171924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A0C6-26AC-4228-9662-114C8D1A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092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2560" y="144000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092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22560" y="3270960"/>
            <a:ext cx="2896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97F2-5643-42FE-BB8A-DEFF40AB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637-DA1D-4749-A4C5-A8B1F1FC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4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31E-5BFE-474F-880A-C1558614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989-410C-4015-9F8D-2D39F31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327096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180-8D26-4EC3-8EB0-D40A7B76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440000"/>
            <a:ext cx="43894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270960"/>
            <a:ext cx="8994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124-C01A-4028-AAC6-3CB1F5E1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4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1F9F-9A9E-4A54-8551-38F491DBC504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48920" y="269640"/>
            <a:ext cx="89946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48920" y="3870000"/>
            <a:ext cx="8994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91F60-4063-4DDE-A4FB-B2E7C94EB8DD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70000"/>
            <a:ext cx="89949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19280" y="511920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49640" y="5128920"/>
            <a:ext cx="18860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FEE47-0052-4557-9D8A-E683A570FE4D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49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4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3928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19280" y="5128920"/>
            <a:ext cx="32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198920" y="5128920"/>
            <a:ext cx="23353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A06A0-841B-4FA0-8ED6-C5B2F9F9CC26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3040" y="3927600"/>
            <a:ext cx="73152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COMPETIȚIA </a:t>
            </a:r>
            <a:br>
              <a:rPr sz="6000"/>
            </a:b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UAUIM FFCSU </a:t>
            </a:r>
            <a:r>
              <a:rPr b="0" lang="de-AT" sz="6000" spc="-1" strike="noStrike">
                <a:solidFill>
                  <a:srgbClr val="ffffff"/>
                </a:solidFill>
                <a:latin typeface="Source Sans Pro Semibold"/>
              </a:rPr>
              <a:t>2024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72800" y="493560"/>
            <a:ext cx="89996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ource Sans Pro Light"/>
              </a:rPr>
              <a:t>Universitatea de Arhitectură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 și Urbanism “Ion Mincu” București 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	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Adresa: Str. Academiei, Nr. 18-20, cod 010014 - București, România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Telefon: (+40-21) 307.71.12, Fax: (+40-21) 307.71.09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DMC – Departamentul pentru Managementul Cercetării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www.uauim.ro/cercetare – email: cercetare@uauim.ro</a:t>
            </a:r>
            <a:r>
              <a:rPr b="1" lang="ro-RO" sz="14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03200" y="228600"/>
            <a:ext cx="143496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828800"/>
            <a:ext cx="9623520" cy="1440"/>
          </a:xfrm>
          <a:prstGeom prst="line">
            <a:avLst/>
          </a:prstGeom>
          <a:ln w="18000">
            <a:solidFill>
              <a:srgbClr val="1e9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2259000"/>
            <a:ext cx="78566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CERERE DE FINANȚARE PENTRU PROIECTUL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TITLU / ACRONIM: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56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DOMENIU VIZAT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SE ALEGE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unul dintre cele OPT domenii descrise la punctul IV pentru care se acordă finanţare </a:t>
            </a:r>
            <a:r>
              <a:rPr b="0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Manager proiect /</a:t>
            </a:r>
            <a:r>
              <a:rPr b="0" lang="de-AT" sz="1400" spc="-1" strike="noStrike">
                <a:solidFill>
                  <a:srgbClr val="c9211e"/>
                </a:solidFill>
                <a:latin typeface="Source Sans Pro"/>
              </a:rPr>
              <a:t> Nume, prenume / Funcți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Bugetul propus /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urata proiectului (luni)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Scopul proiectului /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ealizarea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 ....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ObiectiveLE SPECIFICE ALE PROIECTULUI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partament/e implicate  / ECHIPA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in care estimat nr. DOCTORANZI /STUDENȚI IMPLICAȚ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CTIVITĂȚI PROPUS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REZULTATE ASUMATE - CORELARE CU INDICATORII DE REZULTAT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scriere/ justificare BUGET  - care sunt cheltuielile proiectulu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de personal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materiale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4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LTE INFORMAȚII UTILE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PROMOVAREA REZULTATELOR PROIECTELO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REZULTAT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SUSTENABILI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16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9T10:21:58Z</dcterms:created>
  <dc:creator/>
  <dc:description/>
  <dc:language>en-US</dc:language>
  <cp:lastModifiedBy/>
  <dcterms:modified xsi:type="dcterms:W3CDTF">2024-08-02T10:28:29Z</dcterms:modified>
  <cp:revision>294</cp:revision>
  <dc:subject/>
  <dc:title>Vivid</dc:title>
</cp:coreProperties>
</file>