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52C2-FE65-4FEB-8D0D-C94402E30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89964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3271320"/>
            <a:ext cx="89964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76E2-F8DE-4423-B987-89CE3665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800" y="143964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327132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800" y="327132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8B54-4457-404D-B9A6-6863EA627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289656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81280" y="1439640"/>
            <a:ext cx="289656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23280" y="1439640"/>
            <a:ext cx="289656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3271320"/>
            <a:ext cx="289656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81280" y="3271320"/>
            <a:ext cx="289656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23280" y="3271320"/>
            <a:ext cx="289656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0EED-8EB9-476A-8B78-02C921EE9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ABB7-98BB-452C-A0A5-9E6B789C5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640" y="1439640"/>
            <a:ext cx="89964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465a4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C7BF-4F30-4FC5-8010-5A649827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89964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05561-F7EE-41F6-A9E6-7FA87FA5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43902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9800" y="1439640"/>
            <a:ext cx="43902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59BD-284B-4221-B153-639DA277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9199-A0D2-43C7-9DD7-F48F6571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640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465a4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4EB1-20BF-4663-A8C4-1483588C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9800" y="1439640"/>
            <a:ext cx="43902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9640" y="327132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74C0-7488-4558-A70F-D5C222E3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1439640"/>
            <a:ext cx="89964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465a4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90AF-F904-45B3-BE0C-936061B2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43902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800" y="143964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49800" y="327132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AC8A-8357-456D-A290-CC142D41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9800" y="143964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9640" y="3271320"/>
            <a:ext cx="89964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23EF-68E7-46E4-9CC0-05435CE7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89964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9640" y="3271320"/>
            <a:ext cx="89964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A9F9-EE36-4B89-88BC-129B390D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9800" y="143964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9640" y="327132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49800" y="327132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F600-00AB-445C-9D77-6F0A75C37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289656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1280" y="1439640"/>
            <a:ext cx="289656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23280" y="1439640"/>
            <a:ext cx="289656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9640" y="3271320"/>
            <a:ext cx="289656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1280" y="3271320"/>
            <a:ext cx="289656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23280" y="3271320"/>
            <a:ext cx="289656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ABFF-F3BE-48BB-AF60-11B2E9C1F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4C6C2-237A-4F6C-9E4B-CCDED52C4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9640" y="1439640"/>
            <a:ext cx="89964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465a4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A681F-C400-4C88-8D91-029A972D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89964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3F808-73E8-4BF2-ADF4-FC6723DA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43902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49800" y="1439640"/>
            <a:ext cx="43902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77A84-396D-4070-93E8-B1444008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4D5E2-5D8D-41FD-83CB-D9073C31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89964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7C56-64FD-4B1C-AE7A-05669C97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640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465a4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F164D-B562-47A1-9316-9F4C2052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800" y="1439640"/>
            <a:ext cx="43902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9640" y="327132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09EA5-45D4-44AE-BAF1-AF56FB5D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43902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800" y="143964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49800" y="327132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55FCA-AA6F-437A-BD30-C7D3777C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49800" y="143964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9640" y="3271320"/>
            <a:ext cx="89964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55B88-A98C-4782-839F-4B8013D2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89964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9640" y="3271320"/>
            <a:ext cx="89964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9DE85-11ED-42E9-B9A0-49B38325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49800" y="143964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9640" y="327132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49800" y="327132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E4E7F-255B-44BC-88D5-DF932D283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289656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81280" y="1439640"/>
            <a:ext cx="289656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623280" y="1439640"/>
            <a:ext cx="289656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9640" y="3271320"/>
            <a:ext cx="289656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581280" y="3271320"/>
            <a:ext cx="289656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623280" y="3271320"/>
            <a:ext cx="289656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B0D0D-3722-45D5-B4BD-AAACD65F5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0CB70-E7F9-4505-BF54-9BAF32802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39640" y="1439640"/>
            <a:ext cx="89964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465a4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8189C-9766-468C-BED4-3B54599E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89964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FAB89-57BF-4081-BC08-3AAF2996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43902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800" y="1439640"/>
            <a:ext cx="43902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CAB8-153D-4499-AE70-5182FE79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43902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9800" y="1439640"/>
            <a:ext cx="43902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7193C-2A3E-4EA8-B599-8F286055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B7216-7B14-4568-BF13-8E10AF20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640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465a4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71EAC-FAB4-4EB5-AD24-8C7B4CBA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49800" y="1439640"/>
            <a:ext cx="43902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39640" y="327132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74A1B-5FC0-431E-BE82-EB78FB03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43902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49800" y="143964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49800" y="327132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D923C-542F-414A-95F7-2C5D7115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49800" y="143964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9640" y="3271320"/>
            <a:ext cx="89964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1E54A-D0A1-4B42-9C09-25405FE6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89964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9640" y="3271320"/>
            <a:ext cx="89964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F5DD4-ED67-4C6A-B81F-65EECB08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49800" y="143964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39640" y="327132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49800" y="327132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92EE4-626D-4B3D-AA59-E9519568C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289656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81280" y="1439640"/>
            <a:ext cx="289656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623280" y="1439640"/>
            <a:ext cx="289656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39640" y="3271320"/>
            <a:ext cx="289656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81280" y="3271320"/>
            <a:ext cx="289656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623280" y="3271320"/>
            <a:ext cx="289656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80B3C-929B-4F02-951C-6B9A9E8D3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5811-820D-4E1F-A12F-8EB90036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640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465a4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07D5-DB9D-4863-9DC9-E634926D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800" y="1439640"/>
            <a:ext cx="43902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327132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1E9D-7E69-4938-BE13-CD88EF3D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43902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800" y="143964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800" y="327132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91DA-A1A1-4DF6-87E8-9B900859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800" y="143964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3271320"/>
            <a:ext cx="89964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CE91-EED8-4431-B362-992A66F9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3743280"/>
            <a:ext cx="10080720" cy="1925640"/>
          </a:xfrm>
          <a:prstGeom prst="rect">
            <a:avLst/>
          </a:prstGeom>
          <a:ln w="0">
            <a:noFill/>
          </a:ln>
          <a:effectLst>
            <a:outerShdw dist="18000" dir="16200000" blurRad="0" rotWithShape="0">
              <a:srgbClr val="f49100"/>
            </a:outerShdw>
          </a:effectLst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48920" y="5128920"/>
            <a:ext cx="2336760" cy="44604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Source Sans Pro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dbf5f9"/>
                </a:solidFill>
                <a:latin typeface="Source Sans Pro"/>
              </a:rPr>
              <a:t>&lt;date/time&gt;</a:t>
            </a:r>
            <a:r>
              <a:rPr b="0" lang="de-AT" sz="2400" spc="-1" strike="noStrike">
                <a:solidFill>
                  <a:srgbClr val="dbf5f9"/>
                </a:solidFill>
                <a:latin typeface="Source Sans Pr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419280" y="5128920"/>
            <a:ext cx="3236760" cy="44604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Source Sans Pro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dbf5f9"/>
                </a:solidFill>
                <a:latin typeface="Source Sans Pro"/>
              </a:rPr>
              <a:t>&lt;footer&gt;</a:t>
            </a:r>
            <a:r>
              <a:rPr b="0" lang="de-AT" sz="2400" spc="-1" strike="noStrike">
                <a:solidFill>
                  <a:srgbClr val="dbf5f9"/>
                </a:solidFill>
                <a:latin typeface="Source Sans Pr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198920" y="5128920"/>
            <a:ext cx="2336760" cy="44604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Source Sans Pro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BAF6D-AA36-41A2-88A7-768D334A8F70}" type="slidenum">
              <a:rPr b="0" lang="de-AT" sz="2400" spc="-1" strike="noStrike">
                <a:solidFill>
                  <a:srgbClr val="dbf5f9"/>
                </a:solidFill>
                <a:latin typeface="Source Sans Pro"/>
              </a:rPr>
              <a:t>&lt;number&gt;</a:t>
            </a:fld>
            <a:r>
              <a:rPr b="0" lang="de-AT" sz="2400" spc="-1" strike="noStrike">
                <a:solidFill>
                  <a:srgbClr val="dbf5f9"/>
                </a:solidFill>
                <a:latin typeface="Source Sans Pr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49280" y="269640"/>
            <a:ext cx="8996400" cy="32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Source Sans Pro Light"/>
              </a:rPr>
              <a:t>Click to edit the title text format</a:t>
            </a:r>
            <a:endParaRPr b="0" lang="en-US" sz="6000" spc="-1" strike="noStrike">
              <a:solidFill>
                <a:srgbClr val="04617b"/>
              </a:solidFill>
              <a:latin typeface="Source Sans Pro Ligh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49280" y="3870000"/>
            <a:ext cx="89964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marL="130320" indent="0">
              <a:lnSpc>
                <a:spcPct val="104000"/>
              </a:lnSpc>
              <a:spcAft>
                <a:spcPts val="92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Click to edit the outline text format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1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econd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2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Third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3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Four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4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Fif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5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ix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6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even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080720" cy="1101600"/>
          </a:xfrm>
          <a:prstGeom prst="rect">
            <a:avLst/>
          </a:prstGeom>
          <a:ln w="0">
            <a:noFill/>
          </a:ln>
          <a:effectLst>
            <a:outerShdw dist="10800" dir="5400000" blurRad="0" rotWithShape="0">
              <a:srgbClr val="f49100"/>
            </a:outerShdw>
          </a:effectLst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Source Sans Pro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9640" y="1439640"/>
            <a:ext cx="89964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39280" y="5128920"/>
            <a:ext cx="2336760" cy="4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Source Sans Pro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Source Sans Pro"/>
              </a:rPr>
              <a:t>&lt;date/time&gt;</a:t>
            </a:r>
            <a:r>
              <a:rPr b="0" lang="de-AT" sz="2400" spc="-1" strike="noStrike">
                <a:solidFill>
                  <a:srgbClr val="484848"/>
                </a:solidFill>
                <a:latin typeface="Source Sans Pr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419280" y="5128920"/>
            <a:ext cx="3236760" cy="4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Source Sans Pro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Source Sans Pro"/>
              </a:rPr>
              <a:t>&lt;footer&gt;</a:t>
            </a:r>
            <a:r>
              <a:rPr b="0" lang="de-AT" sz="2400" spc="-1" strike="noStrike">
                <a:solidFill>
                  <a:srgbClr val="484848"/>
                </a:solidFill>
                <a:latin typeface="Source Sans Pr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198920" y="5128920"/>
            <a:ext cx="2336760" cy="4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Source Sans Pro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76A91-CBAC-4881-91D8-280E57114A79}" type="slidenum">
              <a:rPr b="0" lang="de-AT" sz="2400" spc="-1" strike="noStrike">
                <a:solidFill>
                  <a:srgbClr val="484848"/>
                </a:solidFill>
                <a:latin typeface="Source Sans Pro"/>
              </a:rPr>
              <a:t>&lt;number&gt;</a:t>
            </a:fld>
            <a:r>
              <a:rPr b="0" lang="de-AT" sz="2400" spc="-1" strike="noStrike">
                <a:solidFill>
                  <a:srgbClr val="484848"/>
                </a:solidFill>
                <a:latin typeface="Source Sans Pr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201600"/>
          </a:xfrm>
          <a:prstGeom prst="rect">
            <a:avLst/>
          </a:prstGeom>
          <a:ln w="0">
            <a:noFill/>
          </a:ln>
          <a:effectLst>
            <a:outerShdw dist="10800" dir="5400000" blurRad="0" rotWithShape="0">
              <a:srgbClr val="f49100"/>
            </a:outerShdw>
          </a:effectLst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26964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Source Sans Pro Light"/>
              </a:rPr>
              <a:t>Click to edit the title text format</a:t>
            </a:r>
            <a:endParaRPr b="0" lang="en-US" sz="4500" spc="-1" strike="noStrike">
              <a:solidFill>
                <a:srgbClr val="04617b"/>
              </a:solidFill>
              <a:latin typeface="Source Sans Pro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39640" y="1440000"/>
            <a:ext cx="8996400" cy="40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539280" y="5128920"/>
            <a:ext cx="2336760" cy="4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Source Sans Pro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Source Sans Pro"/>
              </a:rPr>
              <a:t>&lt;date/time&gt;</a:t>
            </a:r>
            <a:r>
              <a:rPr b="0" lang="de-AT" sz="2400" spc="-1" strike="noStrike">
                <a:solidFill>
                  <a:srgbClr val="484848"/>
                </a:solidFill>
                <a:latin typeface="Source Sans Pr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419280" y="5119200"/>
            <a:ext cx="3236760" cy="4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Source Sans Pro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Source Sans Pro"/>
              </a:rPr>
              <a:t>&lt;footer&gt;</a:t>
            </a:r>
            <a:r>
              <a:rPr b="0" lang="de-AT" sz="2400" spc="-1" strike="noStrike">
                <a:solidFill>
                  <a:srgbClr val="484848"/>
                </a:solidFill>
                <a:latin typeface="Source Sans Pr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7650000" y="5128920"/>
            <a:ext cx="1887840" cy="4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Source Sans Pro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90519-AC81-46EF-AB96-EF37211CB7A8}" type="slidenum">
              <a:rPr b="0" lang="de-AT" sz="2400" spc="-1" strike="noStrike">
                <a:solidFill>
                  <a:srgbClr val="484848"/>
                </a:solidFill>
                <a:latin typeface="Source Sans Pro"/>
              </a:rPr>
              <a:t>&lt;number&gt;</a:t>
            </a:fld>
            <a:r>
              <a:rPr b="0" lang="de-AT" sz="2400" spc="-1" strike="noStrike">
                <a:solidFill>
                  <a:srgbClr val="484848"/>
                </a:solidFill>
                <a:latin typeface="Source Sans Pr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5557680"/>
            <a:ext cx="10080720" cy="113040"/>
          </a:xfrm>
          <a:prstGeom prst="rect">
            <a:avLst/>
          </a:prstGeom>
          <a:ln w="0">
            <a:noFill/>
          </a:ln>
          <a:effectLst>
            <a:outerShdw dist="10800" dir="16200000" blurRad="0" rotWithShape="0">
              <a:srgbClr val="f49100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080720" cy="1101600"/>
          </a:xfrm>
          <a:prstGeom prst="rect">
            <a:avLst/>
          </a:prstGeom>
          <a:ln w="0">
            <a:noFill/>
          </a:ln>
          <a:effectLst>
            <a:outerShdw dist="10800" dir="5400000" blurRad="0" rotWithShape="0">
              <a:srgbClr val="f49100"/>
            </a:outerShdw>
          </a:effectLst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Source Sans Pro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39640" y="1439640"/>
            <a:ext cx="89964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539280" y="5128920"/>
            <a:ext cx="2336760" cy="4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Source Sans Pro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Source Sans Pro"/>
              </a:rPr>
              <a:t>&lt;date/time&gt;</a:t>
            </a:r>
            <a:r>
              <a:rPr b="0" lang="de-AT" sz="2400" spc="-1" strike="noStrike">
                <a:solidFill>
                  <a:srgbClr val="484848"/>
                </a:solidFill>
                <a:latin typeface="Source Sans Pr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419280" y="5128920"/>
            <a:ext cx="3236760" cy="4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Source Sans Pro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Source Sans Pro"/>
              </a:rPr>
              <a:t>&lt;footer&gt;</a:t>
            </a:r>
            <a:r>
              <a:rPr b="0" lang="de-AT" sz="2400" spc="-1" strike="noStrike">
                <a:solidFill>
                  <a:srgbClr val="484848"/>
                </a:solidFill>
                <a:latin typeface="Source Sans Pr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198920" y="5128920"/>
            <a:ext cx="2336760" cy="4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Source Sans Pro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55244C-6E2A-45FA-A735-FD0100CF03E9}" type="slidenum">
              <a:rPr b="0" lang="de-AT" sz="2400" spc="-1" strike="noStrike">
                <a:solidFill>
                  <a:srgbClr val="484848"/>
                </a:solidFill>
                <a:latin typeface="Source Sans Pro"/>
              </a:rPr>
              <a:t>&lt;number&gt;</a:t>
            </a:fld>
            <a:r>
              <a:rPr b="0" lang="de-AT" sz="2400" spc="-1" strike="noStrike">
                <a:solidFill>
                  <a:srgbClr val="484848"/>
                </a:solidFill>
                <a:latin typeface="Source Sans Pr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13040" y="3927600"/>
            <a:ext cx="7315200" cy="15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6000" spc="-1" strike="noStrike">
                <a:solidFill>
                  <a:srgbClr val="ffffff"/>
                </a:solidFill>
                <a:latin typeface="Source Sans Pro Semibold"/>
              </a:rPr>
              <a:t>COMPETIȚIA </a:t>
            </a:r>
            <a:br>
              <a:rPr sz="6000"/>
            </a:br>
            <a:r>
              <a:rPr b="1" lang="de-AT" sz="6000" spc="-1" strike="noStrike">
                <a:solidFill>
                  <a:srgbClr val="ffffff"/>
                </a:solidFill>
                <a:latin typeface="Source Sans Pro Semibold"/>
              </a:rPr>
              <a:t>UAUIM FFCSU </a:t>
            </a:r>
            <a:r>
              <a:rPr b="0" lang="de-AT" sz="6000" spc="-1" strike="noStrike">
                <a:solidFill>
                  <a:srgbClr val="ffffff"/>
                </a:solidFill>
                <a:latin typeface="Source Sans Pro Semibold"/>
              </a:rPr>
              <a:t>2023</a:t>
            </a:r>
            <a:endParaRPr b="0" lang="en-US" sz="6000" spc="-1" strike="noStrike">
              <a:solidFill>
                <a:srgbClr val="04617b"/>
              </a:solidFill>
              <a:latin typeface="Source Sans Pro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972800" y="493560"/>
            <a:ext cx="89996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ource Sans Pro Light"/>
              </a:rPr>
              <a:t>Universitatea de Arhitectură</a:t>
            </a:r>
            <a:r>
              <a:rPr b="1" lang="de-AT" sz="1400" spc="-1" strike="noStrike">
                <a:solidFill>
                  <a:srgbClr val="000000"/>
                </a:solidFill>
                <a:latin typeface="Source Sans Pro Light"/>
              </a:rPr>
              <a:t> și Urbanism “Ion Mincu” București </a:t>
            </a:r>
            <a:r>
              <a:rPr b="1" lang="de-AT" sz="1400" spc="-1" strike="noStrike">
                <a:solidFill>
                  <a:srgbClr val="000000"/>
                </a:solidFill>
                <a:latin typeface="Source Sans Pro Light"/>
              </a:rPr>
              <a:t>	</a:t>
            </a:r>
            <a:endParaRPr b="1" lang="en-US" sz="1400" spc="-1" strike="noStrike">
              <a:solidFill>
                <a:srgbClr val="dbf5f9"/>
              </a:solidFill>
              <a:latin typeface="Source Sans Pro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Source Sans Pro Light"/>
              </a:rPr>
              <a:t>Adresa: Str. Academiei, Nr. 18-20, cod 010014 - București, România </a:t>
            </a:r>
            <a:endParaRPr b="1" lang="en-US" sz="1400" spc="-1" strike="noStrike">
              <a:solidFill>
                <a:srgbClr val="dbf5f9"/>
              </a:solidFill>
              <a:latin typeface="Source Sans Pro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Source Sans Pro Light"/>
              </a:rPr>
              <a:t>Telefon: (+40-21) 307.71.12, Fax: (+40-21) 307.71.09 </a:t>
            </a:r>
            <a:endParaRPr b="1" lang="en-US" sz="1400" spc="-1" strike="noStrike">
              <a:solidFill>
                <a:srgbClr val="dbf5f9"/>
              </a:solidFill>
              <a:latin typeface="Source Sans Pro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Source Sans Pro Light"/>
              </a:rPr>
              <a:t>DMC – Departamentul pentru Managementul Cercetării</a:t>
            </a:r>
            <a:endParaRPr b="1" lang="en-US" sz="1400" spc="-1" strike="noStrike">
              <a:solidFill>
                <a:srgbClr val="dbf5f9"/>
              </a:solidFill>
              <a:latin typeface="Source Sans Pro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Source Sans Pro Light"/>
              </a:rPr>
              <a:t>www.uauim.ro/cercetare – email: cercetare@uauim.ro</a:t>
            </a:r>
            <a:r>
              <a:rPr b="1" lang="ro-RO" sz="1400" spc="-1" strike="noStrike">
                <a:solidFill>
                  <a:srgbClr val="000000"/>
                </a:solidFill>
                <a:latin typeface="Source Sans Pro"/>
              </a:rPr>
              <a:t> </a:t>
            </a:r>
            <a:endParaRPr b="1" lang="en-US" sz="1400" spc="-1" strike="noStrike">
              <a:solidFill>
                <a:srgbClr val="dbf5f9"/>
              </a:solidFill>
              <a:latin typeface="Source Sans Pro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03200" y="228600"/>
            <a:ext cx="1434960" cy="13716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57200" y="1828800"/>
            <a:ext cx="9623520" cy="1440"/>
          </a:xfrm>
          <a:prstGeom prst="line">
            <a:avLst/>
          </a:prstGeom>
          <a:ln w="18000">
            <a:solidFill>
              <a:srgbClr val="1e9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3" name=""/>
          <p:cNvSpPr/>
          <p:nvPr/>
        </p:nvSpPr>
        <p:spPr>
          <a:xfrm>
            <a:off x="1973160" y="2259000"/>
            <a:ext cx="785664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1e90ff"/>
                </a:solidFill>
                <a:latin typeface="Source Sans Pro"/>
              </a:rPr>
              <a:t>CERERE DE FINANȚARE PENTRU PROIECTUL </a:t>
            </a: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TITLU / ACRONIM: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1e90ff"/>
                </a:solidFill>
                <a:latin typeface="Source Sans Pro"/>
              </a:rPr>
              <a:t>.....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56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1e90ff"/>
                </a:solidFill>
                <a:latin typeface="Source Sans Pro"/>
              </a:rPr>
              <a:t>DOMENIU VIZAT</a:t>
            </a: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 SE ALEGE </a:t>
            </a: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unul dintre cele OPT domenii descrise la punctul IV pentru care se acordă finanţare </a:t>
            </a:r>
            <a:r>
              <a:rPr b="0" lang="ro-RO" sz="1400" spc="-1" strike="noStrike">
                <a:solidFill>
                  <a:srgbClr val="1e90ff"/>
                </a:solidFill>
                <a:latin typeface="Source Sans Pro"/>
              </a:rPr>
              <a:t>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90000"/>
            <a:ext cx="864072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4100" spc="-1" strike="noStrike">
                <a:solidFill>
                  <a:srgbClr val="fffaf0"/>
                </a:solidFill>
                <a:latin typeface="Source Sans Pro Semibold"/>
              </a:rPr>
              <a:t>COMPETIȚIA UAUIM FFCSU 2023</a:t>
            </a:r>
            <a:endParaRPr b="0" lang="en-US" sz="41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1440000"/>
            <a:ext cx="9021600" cy="34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Manager proiect /</a:t>
            </a:r>
            <a:r>
              <a:rPr b="0" lang="de-AT" sz="1400" spc="-1" strike="noStrike">
                <a:solidFill>
                  <a:srgbClr val="c9211e"/>
                </a:solidFill>
                <a:latin typeface="Source Sans Pro"/>
              </a:rPr>
              <a:t> Nume, prenume / Funcți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Bugetul propus /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Durata proiectului (luni)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1e90ff"/>
                </a:solidFill>
                <a:latin typeface="Source Sans Pro"/>
              </a:rPr>
              <a:t>Scopul proiectului / </a:t>
            </a:r>
            <a:r>
              <a:rPr b="0" lang="ro-RO" sz="1400" spc="-1" strike="noStrike">
                <a:solidFill>
                  <a:srgbClr val="00008b"/>
                </a:solidFill>
                <a:latin typeface="Source Sans Pro"/>
              </a:rPr>
              <a:t> </a:t>
            </a: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Realizarea</a:t>
            </a:r>
            <a:r>
              <a:rPr b="0" lang="ro-RO" sz="1400" spc="-1" strike="noStrike">
                <a:solidFill>
                  <a:srgbClr val="00008b"/>
                </a:solidFill>
                <a:latin typeface="Source Sans Pro"/>
              </a:rPr>
              <a:t>  .....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9072720" y="41400"/>
            <a:ext cx="914400" cy="873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57200" y="5029200"/>
            <a:ext cx="9623520" cy="1440"/>
          </a:xfrm>
          <a:prstGeom prst="line">
            <a:avLst/>
          </a:prstGeom>
          <a:ln w="18000">
            <a:solidFill>
              <a:srgbClr val="ff8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8" name=""/>
          <p:cNvSpPr/>
          <p:nvPr/>
        </p:nvSpPr>
        <p:spPr>
          <a:xfrm>
            <a:off x="504720" y="5045040"/>
            <a:ext cx="864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3600" spc="-1" strike="noStrike">
                <a:solidFill>
                  <a:srgbClr val="1e90ff"/>
                </a:solidFill>
                <a:latin typeface="Source Sans Pro Black"/>
              </a:rPr>
              <a:t>PROIECT: </a:t>
            </a:r>
            <a:endParaRPr b="0" lang="en-US" sz="36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90000"/>
            <a:ext cx="864072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4100" spc="-1" strike="noStrike">
                <a:solidFill>
                  <a:srgbClr val="fffaf0"/>
                </a:solidFill>
                <a:latin typeface="Source Sans Pro Semibold"/>
              </a:rPr>
              <a:t>COMPETIȚIA UAUIM FFCSU 2023</a:t>
            </a:r>
            <a:endParaRPr b="0" lang="en-US" sz="41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3280" y="1440000"/>
            <a:ext cx="9021600" cy="34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1e90ff"/>
                </a:solidFill>
                <a:latin typeface="Source Sans Pro"/>
              </a:rPr>
              <a:t>ObiectiveLE SPECIFICE ALE PROIECTULUI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OS1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OS2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OS3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9072720" y="41400"/>
            <a:ext cx="914400" cy="873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57200" y="5029200"/>
            <a:ext cx="9623520" cy="1440"/>
          </a:xfrm>
          <a:prstGeom prst="line">
            <a:avLst/>
          </a:prstGeom>
          <a:ln w="18000">
            <a:solidFill>
              <a:srgbClr val="ff8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3" name=""/>
          <p:cNvSpPr/>
          <p:nvPr/>
        </p:nvSpPr>
        <p:spPr>
          <a:xfrm>
            <a:off x="504720" y="5045040"/>
            <a:ext cx="864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3600" spc="-1" strike="noStrike">
                <a:solidFill>
                  <a:srgbClr val="1e90ff"/>
                </a:solidFill>
                <a:latin typeface="Source Sans Pro Black"/>
              </a:rPr>
              <a:t>PROIECT: </a:t>
            </a:r>
            <a:endParaRPr b="0" lang="en-US" sz="36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90000"/>
            <a:ext cx="864072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4100" spc="-1" strike="noStrike">
                <a:solidFill>
                  <a:srgbClr val="fffaf0"/>
                </a:solidFill>
                <a:latin typeface="Source Sans Pro Semibold"/>
              </a:rPr>
              <a:t>COMPETIȚIA UAUIM FFCSU 2023</a:t>
            </a:r>
            <a:endParaRPr b="0" lang="en-US" sz="41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3280" y="1440000"/>
            <a:ext cx="9021600" cy="34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Departament/e implicate  / ECHIPA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din care estimat nr. DOCTORANZI /STUDENȚI IMPLICAȚI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9072720" y="41400"/>
            <a:ext cx="914400" cy="873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57200" y="5029200"/>
            <a:ext cx="9623520" cy="1440"/>
          </a:xfrm>
          <a:prstGeom prst="line">
            <a:avLst/>
          </a:prstGeom>
          <a:ln w="18000">
            <a:solidFill>
              <a:srgbClr val="ff8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8" name=""/>
          <p:cNvSpPr/>
          <p:nvPr/>
        </p:nvSpPr>
        <p:spPr>
          <a:xfrm>
            <a:off x="504720" y="5045040"/>
            <a:ext cx="864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3600" spc="-1" strike="noStrike">
                <a:solidFill>
                  <a:srgbClr val="1e90ff"/>
                </a:solidFill>
                <a:latin typeface="Source Sans Pro Black"/>
              </a:rPr>
              <a:t>PROIECT: </a:t>
            </a:r>
            <a:endParaRPr b="0" lang="en-US" sz="36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90000"/>
            <a:ext cx="864072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4100" spc="-1" strike="noStrike">
                <a:solidFill>
                  <a:srgbClr val="fffaf0"/>
                </a:solidFill>
                <a:latin typeface="Source Sans Pro Semibold"/>
              </a:rPr>
              <a:t>COMPETIȚIA UAUIM FFCSU 2023</a:t>
            </a:r>
            <a:endParaRPr b="0" lang="en-US" sz="41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3280" y="1440000"/>
            <a:ext cx="9021600" cy="34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ACTIVITĂȚI PROPUS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A1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A2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A3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9072720" y="41400"/>
            <a:ext cx="914400" cy="873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57200" y="5029200"/>
            <a:ext cx="9623520" cy="1440"/>
          </a:xfrm>
          <a:prstGeom prst="line">
            <a:avLst/>
          </a:prstGeom>
          <a:ln w="18000">
            <a:solidFill>
              <a:srgbClr val="ff8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3" name=""/>
          <p:cNvSpPr/>
          <p:nvPr/>
        </p:nvSpPr>
        <p:spPr>
          <a:xfrm>
            <a:off x="504720" y="5045040"/>
            <a:ext cx="864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3600" spc="-1" strike="noStrike">
                <a:solidFill>
                  <a:srgbClr val="1e90ff"/>
                </a:solidFill>
                <a:latin typeface="Source Sans Pro Black"/>
              </a:rPr>
              <a:t>PROIECT: </a:t>
            </a:r>
            <a:endParaRPr b="0" lang="en-US" sz="36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90000"/>
            <a:ext cx="864072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4100" spc="-1" strike="noStrike">
                <a:solidFill>
                  <a:srgbClr val="fffaf0"/>
                </a:solidFill>
                <a:latin typeface="Source Sans Pro Semibold"/>
              </a:rPr>
              <a:t>COMPETIȚIA UAUIM FFCSU 2023</a:t>
            </a:r>
            <a:endParaRPr b="0" lang="en-US" sz="41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1440000"/>
            <a:ext cx="9021600" cy="34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REZULTATE ASUMAT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9072720" y="41400"/>
            <a:ext cx="914400" cy="873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57200" y="5029200"/>
            <a:ext cx="9623520" cy="1440"/>
          </a:xfrm>
          <a:prstGeom prst="line">
            <a:avLst/>
          </a:prstGeom>
          <a:ln w="18000">
            <a:solidFill>
              <a:srgbClr val="ff8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8" name=""/>
          <p:cNvSpPr/>
          <p:nvPr/>
        </p:nvSpPr>
        <p:spPr>
          <a:xfrm>
            <a:off x="504720" y="5045040"/>
            <a:ext cx="864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3600" spc="-1" strike="noStrike">
                <a:solidFill>
                  <a:srgbClr val="1e90ff"/>
                </a:solidFill>
                <a:latin typeface="Source Sans Pro Black"/>
              </a:rPr>
              <a:t>PROIECT: </a:t>
            </a:r>
            <a:endParaRPr b="0" lang="en-US" sz="36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3280" y="90000"/>
            <a:ext cx="864072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4100" spc="-1" strike="noStrike">
                <a:solidFill>
                  <a:srgbClr val="fffaf0"/>
                </a:solidFill>
                <a:latin typeface="Source Sans Pro Semibold"/>
              </a:rPr>
              <a:t>COMPETIȚIA UAUIM FFCSU 2023</a:t>
            </a:r>
            <a:endParaRPr b="0" lang="en-US" sz="41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3280" y="1440000"/>
            <a:ext cx="9021600" cy="34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Descriere/ justificare BUGET  - care sunt cheltuielile proiectului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Cheltuieli de personal ...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Cheltuieli materiale ...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9072720" y="41400"/>
            <a:ext cx="914400" cy="873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57200" y="5029200"/>
            <a:ext cx="9623520" cy="1440"/>
          </a:xfrm>
          <a:prstGeom prst="line">
            <a:avLst/>
          </a:prstGeom>
          <a:ln w="18000">
            <a:solidFill>
              <a:srgbClr val="ff8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3" name=""/>
          <p:cNvSpPr/>
          <p:nvPr/>
        </p:nvSpPr>
        <p:spPr>
          <a:xfrm>
            <a:off x="504720" y="5045040"/>
            <a:ext cx="864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3600" spc="-1" strike="noStrike">
                <a:solidFill>
                  <a:srgbClr val="1e90ff"/>
                </a:solidFill>
                <a:latin typeface="Source Sans Pro Black"/>
              </a:rPr>
              <a:t>PROIECT: </a:t>
            </a:r>
            <a:endParaRPr b="0" lang="en-US" sz="36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90000"/>
            <a:ext cx="864072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4100" spc="-1" strike="noStrike">
                <a:solidFill>
                  <a:srgbClr val="fffaf0"/>
                </a:solidFill>
                <a:latin typeface="Source Sans Pro Semibold"/>
              </a:rPr>
              <a:t>COMPETIȚIA UAUIM FFCSU 2023</a:t>
            </a:r>
            <a:endParaRPr b="0" lang="en-US" sz="41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1440000"/>
            <a:ext cx="9021600" cy="34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ALTE INFORMAȚII UTILE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- PROMOVAREA REZULTATELOR PROIECTELOR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- ATINGEREA INDICATORILOR DE SUSTENABILITAT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9072720" y="41400"/>
            <a:ext cx="914400" cy="873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57200" y="5029200"/>
            <a:ext cx="9623520" cy="1440"/>
          </a:xfrm>
          <a:prstGeom prst="line">
            <a:avLst/>
          </a:prstGeom>
          <a:ln w="18000">
            <a:solidFill>
              <a:srgbClr val="ff8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8" name=""/>
          <p:cNvSpPr/>
          <p:nvPr/>
        </p:nvSpPr>
        <p:spPr>
          <a:xfrm>
            <a:off x="504720" y="5045040"/>
            <a:ext cx="864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3600" spc="-1" strike="noStrike">
                <a:solidFill>
                  <a:srgbClr val="1e90ff"/>
                </a:solidFill>
                <a:latin typeface="Source Sans Pro Black"/>
              </a:rPr>
              <a:t>PROIECT: </a:t>
            </a:r>
            <a:endParaRPr b="0" lang="en-US" sz="36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09T10:21:58Z</dcterms:created>
  <dc:creator/>
  <dc:description/>
  <dc:language>en-US</dc:language>
  <cp:lastModifiedBy/>
  <dcterms:modified xsi:type="dcterms:W3CDTF">2023-05-09T14:36:54Z</dcterms:modified>
  <cp:revision>293</cp:revision>
  <dc:subject/>
  <dc:title>Vivid</dc:title>
</cp:coreProperties>
</file>