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81D-E9F1-4234-AE8E-80428359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280" y="327240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AF8-23AB-4265-9936-3EF82E4B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16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1D7-018F-44F8-9432-3EB29F7B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164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436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28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164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436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17B-8CC0-4511-A94E-347D41F5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6930-E33A-40E2-BAF3-075E33F2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1439640"/>
            <a:ext cx="89982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7190-3964-40E0-A233-4751D01F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89982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2902-6D3A-4BF9-9DF8-CF2B40E8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98AD-81C4-41F5-AD15-1458350F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9C43-4559-4F9A-8420-D58FBC3D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90360"/>
            <a:ext cx="899820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2DB2-8DBA-46D7-B644-BE29EE55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2AC0-DD16-4AEB-8883-695AED1D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280" y="1439640"/>
            <a:ext cx="89982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3F0B-E959-4C28-92C7-62B2435A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16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D894-0651-4459-AED0-26E4FD39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CF82-57E6-41E2-AA40-E04F85B9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280" y="327240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5888-2BF6-4B01-BC50-AFE2AFB0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16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ED92-D38B-462A-A7B9-836B159F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164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2436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28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164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2436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542C-7F48-44BB-AA6B-667AFCDA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3AC0-6B6F-4982-9248-163F2D1B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280" y="1439640"/>
            <a:ext cx="89982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86CB-8067-4F32-B334-EB28D42C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89982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F7B4-2186-403C-866A-A0BC6C49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BA04-D4F4-4D63-9832-55F4EE92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B4B9-6D8C-404B-A17E-18F4E886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89982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9AC-1BC0-4CBF-8A93-168AAEED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280" y="90360"/>
            <a:ext cx="899820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AB90-2006-4616-8E1C-9C5BD9D0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CCCA-3F1C-4F03-871E-E30F74B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016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9AC91-20ED-4688-900F-0D375DC9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6044-E620-415C-830E-5AEF8464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9280" y="327240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4428-9A9A-4157-A556-E6D6E093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016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D442-B887-4478-AD92-C77E824D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8164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2436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928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8164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2436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4CC7-E046-486D-A118-9C5A4A54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DB1E4-3296-4FBA-AB00-F7E5C8CB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439640"/>
            <a:ext cx="89982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F992-198E-46B2-8F79-4D936AA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89982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7E7F-55FD-4E90-9CF3-C4900187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EF9-DA5A-44FC-AEA4-37CD78B1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2F0A0-FAAC-44C4-AC94-87C77D67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0BA2E-51F7-402D-B150-88996E05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39280" y="90360"/>
            <a:ext cx="899820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BF7E-A81F-412E-82D5-F98F19C0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20C9-5454-4115-A181-69674A1E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016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303D-CFED-405E-BF06-4508746E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2A331-953F-4CDF-8485-9CC25B61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9280" y="327240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BAB32-3D79-4E2B-8244-9C404432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016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8A451-C4CD-4F17-B028-C5C958C3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164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24360" y="143964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3928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164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24360" y="3272400"/>
            <a:ext cx="28972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F0B6F-D940-4CA5-9DA6-53EA63FB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29C-9F1C-429E-93AF-04031C97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280" y="90360"/>
            <a:ext cx="8998200" cy="45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465a4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5B1-4100-47A8-BE23-869A4980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687-67AB-44EF-9479-2AB2CF0D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160" y="327240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AAC-B388-4422-947B-398920FA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160" y="1439640"/>
            <a:ext cx="439092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280" y="3272400"/>
            <a:ext cx="89982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38D-3196-4A5F-B8A8-38327572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743280"/>
            <a:ext cx="10080720" cy="1925640"/>
          </a:xfrm>
          <a:prstGeom prst="rect">
            <a:avLst/>
          </a:prstGeom>
          <a:ln w="0">
            <a:noFill/>
          </a:ln>
          <a:effectLst>
            <a:outerShdw dist="18000" dir="16200000" blurRad="0" rotWithShape="0">
              <a:srgbClr val="f4910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48920" y="5128920"/>
            <a:ext cx="2338200" cy="4474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&lt;date/time&gt;</a:t>
            </a:r>
            <a:r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19280" y="5128920"/>
            <a:ext cx="3238200" cy="4474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&lt;footer&gt;</a:t>
            </a:r>
            <a:r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199280" y="5128920"/>
            <a:ext cx="2338560" cy="4474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dbf5f9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34161-0A52-4648-965C-625D1F3F4FA9}" type="slidenum"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&lt;number&gt;</a:t>
            </a:fld>
            <a:r>
              <a:rPr b="0" lang="de-AT" sz="2400" spc="-1" strike="noStrike">
                <a:solidFill>
                  <a:srgbClr val="dbf5f9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49280" y="269640"/>
            <a:ext cx="8997840" cy="32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49280" y="3870000"/>
            <a:ext cx="89978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104000"/>
              </a:lnSpc>
              <a:spcAft>
                <a:spcPts val="9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Click to edit the outline text format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1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con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2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Third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3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our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4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Fif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5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ix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  <a:p>
            <a:pPr lvl="6" marL="130320" indent="-130320">
              <a:lnSpc>
                <a:spcPct val="104000"/>
              </a:lnSpc>
              <a:spcAft>
                <a:spcPts val="92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dbf5f9"/>
                </a:solidFill>
                <a:latin typeface="Source Sans Pro"/>
              </a:rPr>
              <a:t>Seventh Outline Level</a:t>
            </a:r>
            <a:endParaRPr b="0" lang="en-US" sz="2100" spc="-1" strike="noStrike">
              <a:solidFill>
                <a:srgbClr val="dbf5f9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9280" y="1439640"/>
            <a:ext cx="89982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9640" y="5128920"/>
            <a:ext cx="233856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19280" y="5128920"/>
            <a:ext cx="323820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199280" y="5128920"/>
            <a:ext cx="233856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408F6-73FB-4842-A5A9-A1407E9E14D2}" type="slidenum"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2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269640"/>
            <a:ext cx="8998200" cy="9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9280" y="1440000"/>
            <a:ext cx="899820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39640" y="5128920"/>
            <a:ext cx="233856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19280" y="5119560"/>
            <a:ext cx="3238200" cy="4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650000" y="5128920"/>
            <a:ext cx="188928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FF8DB-044E-4F70-AB1B-B168D6182F2E}" type="slidenum"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5557680"/>
            <a:ext cx="10080720" cy="113040"/>
          </a:xfrm>
          <a:prstGeom prst="rect">
            <a:avLst/>
          </a:prstGeom>
          <a:ln w="0">
            <a:noFill/>
          </a:ln>
          <a:effectLst>
            <a:outerShdw dist="10800" dir="16200000" blurRad="0" rotWithShape="0">
              <a:srgbClr val="f491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720" cy="1101600"/>
          </a:xfrm>
          <a:prstGeom prst="rect">
            <a:avLst/>
          </a:prstGeom>
          <a:ln w="0">
            <a:noFill/>
          </a:ln>
          <a:effectLst>
            <a:outerShdw dist="10800" dir="5400000" blurRad="0" rotWithShape="0">
              <a:srgbClr val="f49100"/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90360"/>
            <a:ext cx="8998200" cy="9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Source Sans Pro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39280" y="1439640"/>
            <a:ext cx="89982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1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2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3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4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5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  <a:p>
            <a:pPr lvl="6" marL="343080" indent="-343080">
              <a:lnSpc>
                <a:spcPct val="104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ource Sans Pr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39640" y="5128920"/>
            <a:ext cx="233856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date/time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19280" y="5128920"/>
            <a:ext cx="323820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footer&gt;</a:t>
            </a:r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199280" y="5128920"/>
            <a:ext cx="233856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AT" sz="2400" spc="-1" strike="noStrike">
                <a:solidFill>
                  <a:srgbClr val="484848"/>
                </a:solidFill>
                <a:latin typeface="Source Sans Pro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0726-8EB5-4500-9F20-B66A2CFD6573}" type="slidenum"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&lt;number&gt;</a:t>
            </a:fld>
            <a:r>
              <a:rPr b="0" lang="de-AT" sz="2400" spc="-1" strike="noStrike">
                <a:solidFill>
                  <a:srgbClr val="484848"/>
                </a:solidFill>
                <a:latin typeface="Source Sans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3040" y="3927600"/>
            <a:ext cx="731520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6000" spc="-1" strike="noStrike">
                <a:solidFill>
                  <a:srgbClr val="ffffff"/>
                </a:solidFill>
                <a:latin typeface="Source Sans Pro Semibold"/>
              </a:rPr>
              <a:t>COMPETIȚIA </a:t>
            </a:r>
            <a:br>
              <a:rPr sz="6000"/>
            </a:br>
            <a:r>
              <a:rPr b="1" lang="de-AT" sz="6000" spc="-1" strike="noStrike">
                <a:solidFill>
                  <a:srgbClr val="ffffff"/>
                </a:solidFill>
                <a:latin typeface="Source Sans Pro Semibold"/>
              </a:rPr>
              <a:t>UAUIM FFCSU </a:t>
            </a:r>
            <a:r>
              <a:rPr b="0" lang="de-AT" sz="6000" spc="-1" strike="noStrike">
                <a:solidFill>
                  <a:srgbClr val="ffffff"/>
                </a:solidFill>
                <a:latin typeface="Source Sans Pro Semibold"/>
              </a:rPr>
              <a:t>2022</a:t>
            </a:r>
            <a:endParaRPr b="0" lang="en-US" sz="6000" spc="-1" strike="noStrike">
              <a:solidFill>
                <a:srgbClr val="04617b"/>
              </a:solidFill>
              <a:latin typeface="Source Sans Pro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72800" y="493560"/>
            <a:ext cx="89996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ource Sans Pro Light"/>
              </a:rPr>
              <a:t>Universitatea de Arhitectură</a:t>
            </a: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 și Urbanism “Ion Mincu” București </a:t>
            </a: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	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Adresa: Str. Academiei, Nr. 18-20, cod 010014 - București, România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000000"/>
                </a:solidFill>
                <a:latin typeface="Source Sans Pro Light"/>
              </a:rPr>
              <a:t>Telefon: (+40-21) 307.71.12, Fax: (+40-21) 307.71.09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Source Sans Pro Light"/>
              </a:rPr>
              <a:t>DMC – Departamentul pentru Managementul Cercetării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Source Sans Pro Light"/>
              </a:rPr>
              <a:t>www.uauim.ro/cercetare – email: cercetare@uauim.ro</a:t>
            </a:r>
            <a:r>
              <a:rPr b="1" lang="ro-RO" sz="1400" spc="-1" strike="noStrike">
                <a:solidFill>
                  <a:srgbClr val="000000"/>
                </a:solidFill>
                <a:latin typeface="Source Sans Pro"/>
              </a:rPr>
              <a:t> </a:t>
            </a:r>
            <a:endParaRPr b="1" lang="en-US" sz="1400" spc="-1" strike="noStrike">
              <a:solidFill>
                <a:srgbClr val="dbf5f9"/>
              </a:solidFill>
              <a:latin typeface="Source Sans Pro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03200" y="228600"/>
            <a:ext cx="143496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" y="1828800"/>
            <a:ext cx="9623520" cy="1440"/>
          </a:xfrm>
          <a:prstGeom prst="line">
            <a:avLst/>
          </a:prstGeom>
          <a:ln w="18000">
            <a:solidFill>
              <a:srgbClr val="1e9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3" name=""/>
          <p:cNvSpPr/>
          <p:nvPr/>
        </p:nvSpPr>
        <p:spPr>
          <a:xfrm>
            <a:off x="1973160" y="2259000"/>
            <a:ext cx="78566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CERERE DE FINANȚARE PENTRU PROIECTUL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TITLU / ACRONIM: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56000"/>
              </a:lnSpc>
              <a:spcAft>
                <a:spcPts val="106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DOMENIU VIZAT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 SE ALEGE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unul dintre cele NOUĂ domenii descrise la punctul IV pentru care se acordă finanţare </a:t>
            </a:r>
            <a:r>
              <a:rPr b="0" lang="ro-RO" sz="1400" spc="-1" strike="noStrike">
                <a:solidFill>
                  <a:srgbClr val="1e90ff"/>
                </a:solidFill>
                <a:latin typeface="Source Sans Pro"/>
              </a:rPr>
              <a:t>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Manager proiect /</a:t>
            </a:r>
            <a:r>
              <a:rPr b="0" lang="de-AT" sz="1400" spc="-1" strike="noStrike">
                <a:solidFill>
                  <a:srgbClr val="c9211e"/>
                </a:solidFill>
                <a:latin typeface="Source Sans Pro"/>
              </a:rPr>
              <a:t> Nume, prenume / Funcți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Bugetul propus / </a:t>
            </a:r>
            <a:r>
              <a:rPr b="0" lang="de-AT" sz="1400" spc="-1" strike="noStrike">
                <a:solidFill>
                  <a:srgbClr val="c9211e"/>
                </a:solidFill>
                <a:latin typeface="Source Sans Pro"/>
              </a:rPr>
              <a:t>Se vor respecta limitele bugetare prevăzute la punctul VI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urata proiectului (luni)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Scopul proiectului / 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</a:t>
            </a: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ealizarea</a:t>
            </a:r>
            <a:r>
              <a:rPr b="0" lang="ro-RO" sz="1400" spc="-1" strike="noStrike">
                <a:solidFill>
                  <a:srgbClr val="00008b"/>
                </a:solidFill>
                <a:latin typeface="Source Sans Pro"/>
              </a:rPr>
              <a:t>  .....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7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1e90ff"/>
                </a:solidFill>
                <a:latin typeface="Source Sans Pro"/>
              </a:rPr>
              <a:t>ObiectiveLE SPECIFICE ALE PROIECTULUI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OS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epartament/e implicate  / ECHIPA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OCTORANZI /STUDENȚI IMPLICAȚI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ACTIVITĂȚI PROPUS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REZULTATE ASUM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Descriere/ justificare BUGET  - care sunt cheltuielile proiectului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de personal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materiale 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o-RO" sz="1400" spc="-1" strike="noStrike">
                <a:solidFill>
                  <a:srgbClr val="c9211e"/>
                </a:solidFill>
                <a:latin typeface="Source Sans Pro"/>
              </a:rPr>
              <a:t>Cheltuieli de capital ....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90000"/>
            <a:ext cx="86407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AT" sz="4100" spc="-1" strike="noStrike">
                <a:solidFill>
                  <a:srgbClr val="fffaf0"/>
                </a:solidFill>
                <a:latin typeface="Source Sans Pro Semibold"/>
              </a:rPr>
              <a:t>COMPETIȚIA UAUIM FFCSU 2022</a:t>
            </a:r>
            <a:endParaRPr b="0" lang="en-US" sz="4100" spc="-1" strike="noStrike">
              <a:solidFill>
                <a:srgbClr val="ffffff"/>
              </a:solidFill>
              <a:latin typeface="Source Sans Pro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1440000"/>
            <a:ext cx="9021600" cy="34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ALTE INFORMAȚII UTILE 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PROMOVAREA REZULTATELOR PROIECTELOR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1400" spc="-1" strike="noStrike">
                <a:solidFill>
                  <a:srgbClr val="1e90ff"/>
                </a:solidFill>
                <a:latin typeface="Source Sans Pro"/>
              </a:rPr>
              <a:t>- ATINGEREA INDICATORILOR DE SUSTENABILITATE</a:t>
            </a: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  <a:p>
            <a:pPr indent="0" algn="just">
              <a:lnSpc>
                <a:spcPct val="156000"/>
              </a:lnSpc>
              <a:spcAft>
                <a:spcPts val="1063"/>
              </a:spcAft>
              <a:buNone/>
              <a:tabLst>
                <a:tab algn="l" pos="0"/>
                <a:tab algn="l" pos="471492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072720" y="41400"/>
            <a:ext cx="914400" cy="873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029200"/>
            <a:ext cx="9623520" cy="1440"/>
          </a:xfrm>
          <a:prstGeom prst="line">
            <a:avLst/>
          </a:prstGeom>
          <a:ln w="18000">
            <a:solidFill>
              <a:srgbClr val="ff8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8" name=""/>
          <p:cNvSpPr/>
          <p:nvPr/>
        </p:nvSpPr>
        <p:spPr>
          <a:xfrm>
            <a:off x="504720" y="5045040"/>
            <a:ext cx="864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AT" sz="3600" spc="-1" strike="noStrike">
                <a:solidFill>
                  <a:srgbClr val="1e90ff"/>
                </a:solidFill>
                <a:latin typeface="Source Sans Pro Black"/>
              </a:rPr>
              <a:t>PROIECT: 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09T10:21:58Z</dcterms:created>
  <dc:creator/>
  <dc:description/>
  <dc:language>en-US</dc:language>
  <cp:lastModifiedBy/>
  <dcterms:modified xsi:type="dcterms:W3CDTF">2022-04-18T16:50:04Z</dcterms:modified>
  <cp:revision>291</cp:revision>
  <dc:subject/>
  <dc:title>Vivid</dc:title>
</cp:coreProperties>
</file>