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EB0-7F7B-409B-8C03-051EA800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D76-DA70-40E9-8F25-88BD2FBF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40B-80FA-4633-A035-6B7D6237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E91-390D-452E-ADE5-78C80F33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BB5C-D6E4-49FA-9CBA-EA502EB0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58F-DE1D-469B-B840-B8175E8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F068-93A3-4B47-BE07-1E8FC3F3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1B33-463D-4F5D-BDD7-9CB6B3B5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3AD2-D79B-4612-9597-0A352138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029E-3B53-4C6B-82C4-FB7AAEA8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A20E-0992-454D-9C7D-6E69CBB9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BF9-5027-4C70-BDB1-88E4A640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745E-5E95-4351-8D89-B1AF968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F36C-A37D-4BA8-9968-42C14B53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9131-C833-4ED6-90E3-72EB86FE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C14B-4DC0-48F4-92A0-BE31BF8B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D289-12B0-4487-99FC-BFF3D776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D8F5-7B2D-4675-A49D-D69F93FE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9621-16F1-4FF0-9E55-3931ECA0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FA42-8B10-42A2-9957-3A6D111D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C6BF-E0FE-4B41-B5E5-62FA1DDB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B4FC0-05FC-47FD-8106-C4A8132C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81F-11E6-4CFD-8386-907A36DF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B870-5658-4554-8F56-B6E4F6F2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436B-F724-4EF3-B154-32B4494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4AA6-FF66-44F1-8E8F-C08C6853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0C66D-7D29-4A14-A870-BDC45FF3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73CCA-2C2D-42A6-93F4-B75A88D8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F5CF8-C937-40A9-8E45-4AF6AD62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DE20-F6BB-48DF-A491-9526B042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AA19-EC1D-45B9-B06C-4A08D5BA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E02F-7DAE-4C3E-98AD-5511FE89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C919-8FEE-4B95-9807-D95B8215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888-AC73-429B-9B1A-F99D34DA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77FB-D689-4A5C-99A8-55A25424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2CEA4-4A61-4F40-89AC-0633D8D9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80C6-6F01-46C4-9451-91DC4F51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BF82-796D-43C8-BD20-F902DAB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52F0-AFAA-4AE1-8919-5E450C7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574E-1798-435F-82CC-3412A3A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3B28-DC91-4A96-8711-F73FB1A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2B64-42A5-4D8B-93D2-29D5B404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1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3280" y="143964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64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1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23280" y="3271320"/>
            <a:ext cx="289656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38D0-B2BC-425B-9956-A51EF837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CE2-3BE7-4CFB-9479-639E4E7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90000"/>
            <a:ext cx="899640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4FC-ACE0-49EC-93DA-DD060D66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77A-0A62-4262-AB95-466430D1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327132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B26-2E73-492E-B081-7AB4015D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439640"/>
            <a:ext cx="43902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271320"/>
            <a:ext cx="8996400" cy="167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A4A-7754-4D30-BEC3-02D04CC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48920" y="5128920"/>
            <a:ext cx="2336760" cy="446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19280" y="5128920"/>
            <a:ext cx="3236760" cy="446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198920" y="5128920"/>
            <a:ext cx="2336760" cy="44604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398AD-7B44-4BD3-AA9B-9DD933D787CD}" type="slidenum"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49280" y="269640"/>
            <a:ext cx="89964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49280" y="3870000"/>
            <a:ext cx="89964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928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9280" y="5128920"/>
            <a:ext cx="32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9892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5E27B-0BAC-4735-9B96-489135EAF568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6964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640" y="1440000"/>
            <a:ext cx="899640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3928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19280" y="5119200"/>
            <a:ext cx="32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50000" y="5128920"/>
            <a:ext cx="188784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62FC0-A7EE-41BC-9E05-A00E8F8D44B1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90000"/>
            <a:ext cx="89964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640" y="1439640"/>
            <a:ext cx="8996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3928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19280" y="5128920"/>
            <a:ext cx="32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198920" y="5128920"/>
            <a:ext cx="2336760" cy="4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05244-62CA-47C8-A776-DB550B573FF9}" type="slidenum"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RAPORTAREA CERCETĂRII UAUIM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008000"/>
            <a:ext cx="902160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2.3. </a:t>
            </a:r>
            <a:r>
              <a:rPr b="1" lang="de-AT" sz="2200" spc="-1" strike="noStrike">
                <a:solidFill>
                  <a:srgbClr val="c9211e"/>
                </a:solidFill>
                <a:latin typeface="Source Sans Pro"/>
              </a:rPr>
              <a:t>XX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. REZULTATE PROIECT </a:t>
            </a:r>
            <a:r>
              <a:rPr b="0" lang="ro-RO" sz="2200" spc="-1" strike="noStrike">
                <a:solidFill>
                  <a:srgbClr val="1e90ff"/>
                </a:solidFill>
                <a:latin typeface="Source Sans Pro"/>
              </a:rPr>
              <a:t>UAUIM-FFCSU-2022-0</a:t>
            </a:r>
            <a:r>
              <a:rPr b="1" lang="ro-RO" sz="2200" spc="-1" strike="noStrike">
                <a:solidFill>
                  <a:srgbClr val="c9211e"/>
                </a:solidFill>
                <a:latin typeface="Source Sans Pro"/>
              </a:rPr>
              <a:t>xx ACRONIM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 - SUMAR</a:t>
            </a: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2. COMPETIȚIA FFCSU 2022</a:t>
            </a:r>
            <a:r>
              <a:rPr b="1" lang="de-AT" sz="4100" spc="-1" strike="noStrike">
                <a:solidFill>
                  <a:srgbClr val="1e90ff"/>
                </a:solidFill>
                <a:latin typeface="Source Sans Pro Light"/>
              </a:rPr>
              <a:t> - 1/1x</a:t>
            </a:r>
            <a:endParaRPr b="0" lang="en-US" sz="4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4" name=""/>
          <p:cNvSpPr/>
          <p:nvPr/>
        </p:nvSpPr>
        <p:spPr>
          <a:xfrm>
            <a:off x="985680" y="1574640"/>
            <a:ext cx="89996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Titlul proiectului: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..... / Domeniu vizat:........</a:t>
            </a: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  /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Perioada de implementare: ........ / </a:t>
            </a: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Buget cheltuit total .... lei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(cheltuieli de personal ... lei, cheltuieli materiale .... lei, capital .... lei)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Scopul proiectului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/ 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Director Proiect – </a:t>
            </a:r>
            <a:r>
              <a:rPr b="1" lang="ro-RO" sz="1400" spc="-1" strike="noStrike">
                <a:solidFill>
                  <a:srgbClr val="c9211e"/>
                </a:solidFill>
                <a:latin typeface="Source Sans Pro"/>
              </a:rPr>
              <a:t>Grad didactic, Prenume, Num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(Departamentul Planificare Urbană și Dezvoltare Teritorială)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Obiective, Echipă, Departamente implicate + Alte informații pe site-urile proiectului: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https://www.uauim.ro/cercetare/uauim-ffcsu-2022/acronim proiect/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2971800"/>
            <a:ext cx="43434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7200" spc="-1" strike="noStrike">
                <a:solidFill>
                  <a:srgbClr val="008080"/>
                </a:solidFill>
                <a:latin typeface="Source Sans Pro"/>
              </a:rPr>
              <a:t>LOGO</a:t>
            </a:r>
            <a:endParaRPr b="0" lang="en-US" sz="72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RAPORTAREA CERCETĂRII UAUIM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008000"/>
            <a:ext cx="902160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2.3. </a:t>
            </a:r>
            <a:r>
              <a:rPr b="1" lang="de-AT" sz="2200" spc="-1" strike="noStrike">
                <a:solidFill>
                  <a:srgbClr val="1e90ff"/>
                </a:solidFill>
                <a:latin typeface="Source Sans Pro"/>
              </a:rPr>
              <a:t>XX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. REZULTATE PROIECT </a:t>
            </a:r>
            <a:r>
              <a:rPr b="1" lang="ro-RO" sz="2200" spc="-1" strike="noStrike">
                <a:solidFill>
                  <a:srgbClr val="1e90ff"/>
                </a:solidFill>
                <a:latin typeface="Source Sans Pro"/>
              </a:rPr>
              <a:t>ACRONIM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 - ACTIVITĂȚI</a:t>
            </a: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0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2. COMPETIȚIA FFCSU 2022</a:t>
            </a:r>
            <a:r>
              <a:rPr b="1" lang="de-AT" sz="4100" spc="-1" strike="noStrike">
                <a:solidFill>
                  <a:srgbClr val="1e90ff"/>
                </a:solidFill>
                <a:latin typeface="Source Sans Pro Light"/>
              </a:rPr>
              <a:t> - 2/1x</a:t>
            </a:r>
            <a:endParaRPr b="0" lang="en-US" sz="4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1" name=""/>
          <p:cNvSpPr/>
          <p:nvPr/>
        </p:nvSpPr>
        <p:spPr>
          <a:xfrm>
            <a:off x="985680" y="1574640"/>
            <a:ext cx="884412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A.1. - Osx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(răspunde Obiectiv specific OS x) 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A.2. - Osx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(răspunde Obiectiv specific OS x) 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A.3. - Osx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(răspunde Obiectiv specific OS x) 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A.4. - Osx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(răspunde Obiectiv specific OS x)  </a:t>
            </a: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A.5. - Osx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(răspunde Obiectiv specific OS x)  </a:t>
            </a: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algn="just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A.6. - Osx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(răspunde Obiectiv specific OS x)  </a:t>
            </a: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2" name=""/>
          <p:cNvSpPr/>
          <p:nvPr/>
        </p:nvSpPr>
        <p:spPr>
          <a:xfrm>
            <a:off x="8686800" y="4262400"/>
            <a:ext cx="137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4000" spc="-1" strike="noStrike">
                <a:solidFill>
                  <a:srgbClr val="008080"/>
                </a:solidFill>
                <a:latin typeface="Source Sans Pro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RAPORTAREA CERCETĂRII UAUIM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008000"/>
            <a:ext cx="902160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2.3. </a:t>
            </a:r>
            <a:r>
              <a:rPr b="1" lang="de-AT" sz="2200" spc="-1" strike="noStrike">
                <a:solidFill>
                  <a:srgbClr val="1e90ff"/>
                </a:solidFill>
                <a:latin typeface="Source Sans Pro"/>
              </a:rPr>
              <a:t>XX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. REZULTATE PROIECT </a:t>
            </a:r>
            <a:r>
              <a:rPr b="1" lang="ro-RO" sz="2200" spc="-1" strike="noStrike">
                <a:solidFill>
                  <a:srgbClr val="1e90ff"/>
                </a:solidFill>
                <a:latin typeface="Source Sans Pro"/>
              </a:rPr>
              <a:t>ACRONIM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 - LIVRABILE</a:t>
            </a: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7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2. COMPETIȚIA FFCSU 2022</a:t>
            </a:r>
            <a:r>
              <a:rPr b="1" lang="de-AT" sz="4100" spc="-1" strike="noStrike">
                <a:solidFill>
                  <a:srgbClr val="1e90ff"/>
                </a:solidFill>
                <a:latin typeface="Source Sans Pro Light"/>
              </a:rPr>
              <a:t> - 3/1x</a:t>
            </a:r>
            <a:endParaRPr b="0" lang="en-US" sz="4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" name=""/>
          <p:cNvSpPr/>
          <p:nvPr/>
        </p:nvSpPr>
        <p:spPr>
          <a:xfrm>
            <a:off x="949320" y="1574640"/>
            <a:ext cx="912960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1 - Ax, Ay, Az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2 -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3 -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4 -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5 -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6 - Ax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4262400"/>
            <a:ext cx="137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4000" spc="-1" strike="noStrike">
                <a:solidFill>
                  <a:srgbClr val="008080"/>
                </a:solidFill>
                <a:latin typeface="Source Sans Pro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RAPORTAREA CERCETĂRII UAUIM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008000"/>
            <a:ext cx="902160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2.3. </a:t>
            </a:r>
            <a:r>
              <a:rPr b="1" lang="de-AT" sz="2200" spc="-1" strike="noStrike">
                <a:solidFill>
                  <a:srgbClr val="1e90ff"/>
                </a:solidFill>
                <a:latin typeface="Source Sans Pro"/>
              </a:rPr>
              <a:t>XX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. REZULTATE PROIECT </a:t>
            </a:r>
            <a:r>
              <a:rPr b="1" lang="ro-RO" sz="2200" spc="-1" strike="noStrike">
                <a:solidFill>
                  <a:srgbClr val="1e90ff"/>
                </a:solidFill>
                <a:latin typeface="Source Sans Pro"/>
              </a:rPr>
              <a:t>ACRONIM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 – LIVRABILE (detaliat)</a:t>
            </a: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2. COMPETIȚIA FFCSU 2022</a:t>
            </a:r>
            <a:r>
              <a:rPr b="1" lang="de-AT" sz="4100" spc="-1" strike="noStrike">
                <a:solidFill>
                  <a:srgbClr val="1e90ff"/>
                </a:solidFill>
                <a:latin typeface="Source Sans Pro Light"/>
              </a:rPr>
              <a:t> - .../1x</a:t>
            </a:r>
            <a:endParaRPr b="0" lang="en-US" sz="4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5" name=""/>
          <p:cNvSpPr/>
          <p:nvPr/>
        </p:nvSpPr>
        <p:spPr>
          <a:xfrm>
            <a:off x="949320" y="1574640"/>
            <a:ext cx="912960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" name=""/>
          <p:cNvSpPr/>
          <p:nvPr/>
        </p:nvSpPr>
        <p:spPr>
          <a:xfrm>
            <a:off x="8686800" y="4262400"/>
            <a:ext cx="137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4000" spc="-1" strike="noStrike">
                <a:solidFill>
                  <a:srgbClr val="008080"/>
                </a:solidFill>
                <a:latin typeface="Source Sans Pro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RAPORTAREA CERCETĂRII UAUIM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1008000"/>
            <a:ext cx="902160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2.3. </a:t>
            </a:r>
            <a:r>
              <a:rPr b="1" lang="de-AT" sz="2200" spc="-1" strike="noStrike">
                <a:solidFill>
                  <a:srgbClr val="1e90ff"/>
                </a:solidFill>
                <a:latin typeface="Source Sans Pro"/>
              </a:rPr>
              <a:t>XX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. REZULTATE PROIECT </a:t>
            </a:r>
            <a:r>
              <a:rPr b="1" lang="ro-RO" sz="2200" spc="-1" strike="noStrike">
                <a:solidFill>
                  <a:srgbClr val="1e90ff"/>
                </a:solidFill>
                <a:latin typeface="Source Sans Pro"/>
              </a:rPr>
              <a:t>ACRONIM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 – LIVRABILE (detaliat)</a:t>
            </a: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2. COMPETIȚIA FFCSU 2022</a:t>
            </a:r>
            <a:r>
              <a:rPr b="1" lang="de-AT" sz="4100" spc="-1" strike="noStrike">
                <a:solidFill>
                  <a:srgbClr val="1e90ff"/>
                </a:solidFill>
                <a:latin typeface="Source Sans Pro Light"/>
              </a:rPr>
              <a:t> - .../1x</a:t>
            </a:r>
            <a:endParaRPr b="0" lang="en-US" sz="4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" name=""/>
          <p:cNvSpPr/>
          <p:nvPr/>
        </p:nvSpPr>
        <p:spPr>
          <a:xfrm>
            <a:off x="949320" y="1574640"/>
            <a:ext cx="912960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8686800" y="4262400"/>
            <a:ext cx="137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4000" spc="-1" strike="noStrike">
                <a:solidFill>
                  <a:srgbClr val="008080"/>
                </a:solidFill>
                <a:latin typeface="Source Sans Pro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RAPORTAREA CERCETĂRII UAUIM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1008000"/>
            <a:ext cx="902160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2.3. </a:t>
            </a:r>
            <a:r>
              <a:rPr b="1" lang="de-AT" sz="2200" spc="-1" strike="noStrike">
                <a:solidFill>
                  <a:srgbClr val="1e90ff"/>
                </a:solidFill>
                <a:latin typeface="Source Sans Pro"/>
              </a:rPr>
              <a:t>XX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. REZULTATE PROIECT </a:t>
            </a:r>
            <a:r>
              <a:rPr b="1" lang="ro-RO" sz="2200" spc="-1" strike="noStrike">
                <a:solidFill>
                  <a:srgbClr val="1e90ff"/>
                </a:solidFill>
                <a:latin typeface="Source Sans Pro"/>
              </a:rPr>
              <a:t>ACRONIM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 – LIVRABILE (detaliat)</a:t>
            </a: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2. COMPETIȚIA FFCSU 2022</a:t>
            </a:r>
            <a:r>
              <a:rPr b="1" lang="de-AT" sz="4100" spc="-1" strike="noStrike">
                <a:solidFill>
                  <a:srgbClr val="1e90ff"/>
                </a:solidFill>
                <a:latin typeface="Source Sans Pro Light"/>
              </a:rPr>
              <a:t> - .../1x</a:t>
            </a:r>
            <a:endParaRPr b="0" lang="en-US" sz="4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9" name=""/>
          <p:cNvSpPr/>
          <p:nvPr/>
        </p:nvSpPr>
        <p:spPr>
          <a:xfrm>
            <a:off x="949320" y="1574640"/>
            <a:ext cx="912960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8b"/>
                </a:solidFill>
                <a:latin typeface="Source Sans Pro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0" name=""/>
          <p:cNvSpPr/>
          <p:nvPr/>
        </p:nvSpPr>
        <p:spPr>
          <a:xfrm>
            <a:off x="8686800" y="4262400"/>
            <a:ext cx="137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4000" spc="-1" strike="noStrike">
                <a:solidFill>
                  <a:srgbClr val="008080"/>
                </a:solidFill>
                <a:latin typeface="Source Sans Pro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RAPORTAREA CERCETĂRII UAUIM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1008000"/>
            <a:ext cx="902160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2.3. </a:t>
            </a:r>
            <a:r>
              <a:rPr b="1" lang="de-AT" sz="2200" spc="-1" strike="noStrike">
                <a:solidFill>
                  <a:srgbClr val="1e90ff"/>
                </a:solidFill>
                <a:latin typeface="Source Sans Pro"/>
              </a:rPr>
              <a:t>XX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. REZULTATE PROIECT </a:t>
            </a:r>
            <a:r>
              <a:rPr b="1" lang="ro-RO" sz="2200" spc="-1" strike="noStrike">
                <a:solidFill>
                  <a:srgbClr val="1e90ff"/>
                </a:solidFill>
                <a:latin typeface="Source Sans Pro"/>
              </a:rPr>
              <a:t>ACRONIM</a:t>
            </a:r>
            <a:r>
              <a:rPr b="0" lang="de-AT" sz="2200" spc="-1" strike="noStrike">
                <a:solidFill>
                  <a:srgbClr val="1e90ff"/>
                </a:solidFill>
                <a:latin typeface="Source Sans Pro"/>
              </a:rPr>
              <a:t> - ECHIPA</a:t>
            </a: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31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5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2. COMPETIȚIA FFCSU 2022</a:t>
            </a:r>
            <a:r>
              <a:rPr b="1" lang="de-AT" sz="4100" spc="-1" strike="noStrike">
                <a:solidFill>
                  <a:srgbClr val="1e90ff"/>
                </a:solidFill>
                <a:latin typeface="Source Sans Pro Light"/>
              </a:rPr>
              <a:t> - .../1x</a:t>
            </a:r>
            <a:endParaRPr b="0" lang="en-US" sz="41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6" name=""/>
          <p:cNvSpPr/>
          <p:nvPr/>
        </p:nvSpPr>
        <p:spPr>
          <a:xfrm>
            <a:off x="985680" y="1574640"/>
            <a:ext cx="899964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Grad, prenume, nume -  director proiect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Prof. dr. arh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Conf.  dr.arh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Lect. dr. urb./arh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Asist. dr. arh./arh.int./urb./peis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Drd.urb. /arh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Stud. Arh./Urb/Arh.int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7" name=""/>
          <p:cNvSpPr/>
          <p:nvPr/>
        </p:nvSpPr>
        <p:spPr>
          <a:xfrm>
            <a:off x="8686800" y="4262400"/>
            <a:ext cx="1371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4000" spc="-1" strike="noStrike">
                <a:solidFill>
                  <a:srgbClr val="008080"/>
                </a:solidFill>
                <a:latin typeface="Source Sans Pro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9T10:21:58Z</dcterms:created>
  <dc:creator/>
  <dc:description/>
  <dc:language>en-US</dc:language>
  <cp:lastModifiedBy/>
  <dcterms:modified xsi:type="dcterms:W3CDTF">2022-04-18T16:50:53Z</dcterms:modified>
  <cp:revision>291</cp:revision>
  <dc:subject/>
  <dc:title>Vivid</dc:title>
</cp:coreProperties>
</file>